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CF5099A4-F7B6-47DB-8233-435DAED4C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0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0: Communication in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895480"/>
            <a:ext cx="5259240" cy="1677960"/>
          </a:xfrm>
          <a:custGeom>
            <a:avLst/>
            <a:gdLst/>
            <a:ahLst/>
            <a:rect l="l" t="t" r="r" b="b"/>
            <a:pathLst>
              <a:path w="3313" h="1057">
                <a:moveTo>
                  <a:pt x="0" y="864"/>
                </a:moveTo>
                <a:lnTo>
                  <a:pt x="1632" y="0"/>
                </a:lnTo>
                <a:lnTo>
                  <a:pt x="3312" y="960"/>
                </a:lnTo>
                <a:lnTo>
                  <a:pt x="960" y="1056"/>
                </a:lnTo>
                <a:lnTo>
                  <a:pt x="0" y="864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40040" y="2901960"/>
            <a:ext cx="32641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Oriented = 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Less =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twork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2895480"/>
            <a:ext cx="2592360" cy="2135160"/>
          </a:xfrm>
          <a:custGeom>
            <a:avLst/>
            <a:gdLst/>
            <a:ahLst/>
            <a:rect l="l" t="t" r="r" b="b"/>
            <a:pathLst>
              <a:path w="1633" h="1345">
                <a:moveTo>
                  <a:pt x="0" y="528"/>
                </a:moveTo>
                <a:lnTo>
                  <a:pt x="1632" y="0"/>
                </a:lnTo>
                <a:lnTo>
                  <a:pt x="1632" y="1344"/>
                </a:lnTo>
                <a:lnTo>
                  <a:pt x="0" y="720"/>
                </a:lnTo>
                <a:lnTo>
                  <a:pt x="0" y="528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40040" y="2901960"/>
            <a:ext cx="5016600" cy="21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izes Session Layer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Oriented: TCP allows fou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” thru an X.25 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Less: Correctly re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an IP 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ransport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895480"/>
            <a:ext cx="2592360" cy="1220760"/>
          </a:xfrm>
          <a:custGeom>
            <a:avLst/>
            <a:gdLst/>
            <a:ahLst/>
            <a:rect l="l" t="t" r="r" b="b"/>
            <a:pathLst>
              <a:path w="1633" h="769">
                <a:moveTo>
                  <a:pt x="0" y="192"/>
                </a:moveTo>
                <a:lnTo>
                  <a:pt x="1632" y="0"/>
                </a:lnTo>
                <a:lnTo>
                  <a:pt x="1632" y="768"/>
                </a:lnTo>
                <a:lnTo>
                  <a:pt x="0" y="384"/>
                </a:lnTo>
                <a:lnTo>
                  <a:pt x="0" y="192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0040" y="2901960"/>
            <a:ext cx="40258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og Control: Keep track of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: Keep track of l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ssion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2666880"/>
            <a:ext cx="5411880" cy="2287800"/>
          </a:xfrm>
          <a:custGeom>
            <a:avLst/>
            <a:gdLst/>
            <a:ahLst/>
            <a:rect l="l" t="t" r="r" b="b"/>
            <a:pathLst>
              <a:path w="3409" h="1441">
                <a:moveTo>
                  <a:pt x="912" y="0"/>
                </a:moveTo>
                <a:lnTo>
                  <a:pt x="3408" y="144"/>
                </a:lnTo>
                <a:lnTo>
                  <a:pt x="1632" y="1440"/>
                </a:lnTo>
                <a:lnTo>
                  <a:pt x="0" y="192"/>
                </a:lnTo>
                <a:lnTo>
                  <a:pt x="912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40040" y="2901960"/>
            <a:ext cx="280692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 of the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Format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entation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2133720"/>
            <a:ext cx="5411880" cy="2820960"/>
          </a:xfrm>
          <a:custGeom>
            <a:avLst/>
            <a:gdLst/>
            <a:ahLst/>
            <a:rect l="l" t="t" r="r" b="b"/>
            <a:pathLst>
              <a:path w="3409" h="1777">
                <a:moveTo>
                  <a:pt x="912" y="0"/>
                </a:moveTo>
                <a:lnTo>
                  <a:pt x="3408" y="480"/>
                </a:lnTo>
                <a:lnTo>
                  <a:pt x="1632" y="1776"/>
                </a:lnTo>
                <a:lnTo>
                  <a:pt x="0" y="192"/>
                </a:lnTo>
                <a:lnTo>
                  <a:pt x="912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40040" y="2901960"/>
            <a:ext cx="295920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X.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pplication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-OSI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ndardized Protoco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able Pie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head, Overhead, Overhead..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es not address network archite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a subset of the lay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ents and Ser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dress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ing versus Non-Blocking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uffered versus Unbuffered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iable versus Unreliable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ing the Client-Server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073160" y="1758960"/>
            <a:ext cx="6921360" cy="596880"/>
            <a:chOff x="1073160" y="1758960"/>
            <a:chExt cx="6921360" cy="596880"/>
          </a:xfrm>
        </p:grpSpPr>
        <p:sp>
          <p:nvSpPr>
            <p:cNvPr id="350" name=""/>
            <p:cNvSpPr/>
            <p:nvPr/>
          </p:nvSpPr>
          <p:spPr>
            <a:xfrm>
              <a:off x="107316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6388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54240" y="1758960"/>
              <a:ext cx="97812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4496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3568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6040" y="1758960"/>
              <a:ext cx="97812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1676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073160" y="2368440"/>
            <a:ext cx="69213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0800000">
            <a:off x="1599840" y="2148120"/>
            <a:ext cx="1510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0800000">
            <a:off x="4738320" y="2148120"/>
            <a:ext cx="18162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99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990"/>
              </a:path>
            </a:pathLst>
          </a:custGeom>
          <a:noFill/>
          <a:ln cap="rnd"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8440" y="2590920"/>
            <a:ext cx="1054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82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25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8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11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54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97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82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25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8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11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54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7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7360" y="51814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55800" y="4654440"/>
            <a:ext cx="63360" cy="555840"/>
            <a:chOff x="955800" y="4654440"/>
            <a:chExt cx="63360" cy="555840"/>
          </a:xfrm>
        </p:grpSpPr>
        <p:sp>
          <p:nvSpPr>
            <p:cNvPr id="377" name=""/>
            <p:cNvSpPr/>
            <p:nvPr/>
          </p:nvSpPr>
          <p:spPr>
            <a:xfrm>
              <a:off x="990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55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098800" y="4654440"/>
            <a:ext cx="63360" cy="555840"/>
            <a:chOff x="2098800" y="4654440"/>
            <a:chExt cx="63360" cy="555840"/>
          </a:xfrm>
        </p:grpSpPr>
        <p:sp>
          <p:nvSpPr>
            <p:cNvPr id="380" name=""/>
            <p:cNvSpPr/>
            <p:nvPr/>
          </p:nvSpPr>
          <p:spPr>
            <a:xfrm>
              <a:off x="2133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98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41800" y="4654440"/>
            <a:ext cx="63360" cy="555840"/>
            <a:chOff x="3241800" y="4654440"/>
            <a:chExt cx="63360" cy="555840"/>
          </a:xfrm>
        </p:grpSpPr>
        <p:sp>
          <p:nvSpPr>
            <p:cNvPr id="383" name=""/>
            <p:cNvSpPr/>
            <p:nvPr/>
          </p:nvSpPr>
          <p:spPr>
            <a:xfrm>
              <a:off x="3276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41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384800" y="4654440"/>
            <a:ext cx="63360" cy="555840"/>
            <a:chOff x="4384800" y="4654440"/>
            <a:chExt cx="63360" cy="555840"/>
          </a:xfrm>
        </p:grpSpPr>
        <p:sp>
          <p:nvSpPr>
            <p:cNvPr id="386" name=""/>
            <p:cNvSpPr/>
            <p:nvPr/>
          </p:nvSpPr>
          <p:spPr>
            <a:xfrm>
              <a:off x="4419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4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27800" y="4654440"/>
            <a:ext cx="63360" cy="555840"/>
            <a:chOff x="5527800" y="4654440"/>
            <a:chExt cx="63360" cy="555840"/>
          </a:xfrm>
        </p:grpSpPr>
        <p:sp>
          <p:nvSpPr>
            <p:cNvPr id="389" name=""/>
            <p:cNvSpPr/>
            <p:nvPr/>
          </p:nvSpPr>
          <p:spPr>
            <a:xfrm>
              <a:off x="5562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7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594480" y="4654440"/>
            <a:ext cx="63360" cy="555840"/>
            <a:chOff x="6594480" y="4654440"/>
            <a:chExt cx="63360" cy="555840"/>
          </a:xfrm>
        </p:grpSpPr>
        <p:sp>
          <p:nvSpPr>
            <p:cNvPr id="392" name=""/>
            <p:cNvSpPr/>
            <p:nvPr/>
          </p:nvSpPr>
          <p:spPr>
            <a:xfrm>
              <a:off x="662940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9448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813800" y="4654440"/>
            <a:ext cx="63360" cy="555840"/>
            <a:chOff x="7813800" y="4654440"/>
            <a:chExt cx="63360" cy="555840"/>
          </a:xfrm>
        </p:grpSpPr>
        <p:sp>
          <p:nvSpPr>
            <p:cNvPr id="395" name=""/>
            <p:cNvSpPr/>
            <p:nvPr/>
          </p:nvSpPr>
          <p:spPr>
            <a:xfrm>
              <a:off x="7848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3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313000" y="2997000"/>
            <a:ext cx="4140000" cy="25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76562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765624"/>
              </a:path>
            </a:pathLst>
          </a:custGeom>
          <a:noFill/>
          <a:ln cap="rnd" w="507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6160" y="4197240"/>
            <a:ext cx="139680" cy="139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8760" y="2957400"/>
            <a:ext cx="31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ach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76880" y="5624640"/>
            <a:ext cx="338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ach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s and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9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82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5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8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11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54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97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82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25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8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11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54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97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7360" y="51814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55800" y="4654440"/>
            <a:ext cx="63360" cy="555840"/>
            <a:chOff x="955800" y="4654440"/>
            <a:chExt cx="63360" cy="555840"/>
          </a:xfrm>
        </p:grpSpPr>
        <p:sp>
          <p:nvSpPr>
            <p:cNvPr id="418" name=""/>
            <p:cNvSpPr/>
            <p:nvPr/>
          </p:nvSpPr>
          <p:spPr>
            <a:xfrm>
              <a:off x="990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55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098800" y="4654440"/>
            <a:ext cx="63360" cy="555840"/>
            <a:chOff x="2098800" y="4654440"/>
            <a:chExt cx="63360" cy="555840"/>
          </a:xfrm>
        </p:grpSpPr>
        <p:sp>
          <p:nvSpPr>
            <p:cNvPr id="421" name=""/>
            <p:cNvSpPr/>
            <p:nvPr/>
          </p:nvSpPr>
          <p:spPr>
            <a:xfrm>
              <a:off x="2133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98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41800" y="4654440"/>
            <a:ext cx="63360" cy="555840"/>
            <a:chOff x="3241800" y="4654440"/>
            <a:chExt cx="63360" cy="555840"/>
          </a:xfrm>
        </p:grpSpPr>
        <p:sp>
          <p:nvSpPr>
            <p:cNvPr id="424" name=""/>
            <p:cNvSpPr/>
            <p:nvPr/>
          </p:nvSpPr>
          <p:spPr>
            <a:xfrm>
              <a:off x="3276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41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384800" y="4654440"/>
            <a:ext cx="63360" cy="555840"/>
            <a:chOff x="4384800" y="4654440"/>
            <a:chExt cx="63360" cy="555840"/>
          </a:xfrm>
        </p:grpSpPr>
        <p:sp>
          <p:nvSpPr>
            <p:cNvPr id="427" name=""/>
            <p:cNvSpPr/>
            <p:nvPr/>
          </p:nvSpPr>
          <p:spPr>
            <a:xfrm>
              <a:off x="4419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84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527800" y="4654440"/>
            <a:ext cx="63360" cy="555840"/>
            <a:chOff x="5527800" y="4654440"/>
            <a:chExt cx="63360" cy="555840"/>
          </a:xfrm>
        </p:grpSpPr>
        <p:sp>
          <p:nvSpPr>
            <p:cNvPr id="430" name=""/>
            <p:cNvSpPr/>
            <p:nvPr/>
          </p:nvSpPr>
          <p:spPr>
            <a:xfrm>
              <a:off x="5562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27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594480" y="4654440"/>
            <a:ext cx="63360" cy="555840"/>
            <a:chOff x="6594480" y="4654440"/>
            <a:chExt cx="63360" cy="555840"/>
          </a:xfrm>
        </p:grpSpPr>
        <p:sp>
          <p:nvSpPr>
            <p:cNvPr id="433" name=""/>
            <p:cNvSpPr/>
            <p:nvPr/>
          </p:nvSpPr>
          <p:spPr>
            <a:xfrm>
              <a:off x="662940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9448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813800" y="4654440"/>
            <a:ext cx="63360" cy="555840"/>
            <a:chOff x="7813800" y="4654440"/>
            <a:chExt cx="63360" cy="555840"/>
          </a:xfrm>
        </p:grpSpPr>
        <p:sp>
          <p:nvSpPr>
            <p:cNvPr id="436" name=""/>
            <p:cNvSpPr/>
            <p:nvPr/>
          </p:nvSpPr>
          <p:spPr>
            <a:xfrm>
              <a:off x="7848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13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313000" y="2997000"/>
            <a:ext cx="4139640" cy="25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94" y="13732"/>
                </a:moveTo>
                <a:arcTo wR="10800" hR="10800" stAng="945115" swAng="9820508"/>
                <a:lnTo>
                  <a:pt x="10800" y="10800"/>
                </a:lnTo>
                <a:close/>
              </a:path>
              <a:path fill="none" w="21600" h="21600">
                <a:moveTo>
                  <a:pt x="21194" y="13732"/>
                </a:moveTo>
                <a:arcTo wR="10800" hR="10800" stAng="945115" swAng="9820508"/>
              </a:path>
            </a:pathLst>
          </a:custGeom>
          <a:noFill/>
          <a:ln cap="rnd" w="507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16160" y="4197240"/>
            <a:ext cx="139680" cy="139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09360" y="5624640"/>
            <a:ext cx="131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2467080" y="2743200"/>
            <a:ext cx="4140000" cy="25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6" y="12732"/>
                </a:moveTo>
                <a:arcTo wR="10800" hR="10800" stAng="618289" swAng="10147335"/>
                <a:lnTo>
                  <a:pt x="10800" y="10800"/>
                </a:lnTo>
                <a:close/>
              </a:path>
              <a:path fill="none" w="21600" h="21600">
                <a:moveTo>
                  <a:pt x="21426" y="12732"/>
                </a:moveTo>
                <a:arcTo wR="10800" hR="10800" stAng="618289" swAng="10147335"/>
              </a:path>
            </a:pathLst>
          </a:custGeom>
          <a:noFill/>
          <a:ln cap="rnd" w="507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16160" y="2805120"/>
            <a:ext cx="95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9560" y="3968640"/>
            <a:ext cx="139680" cy="139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04760" y="1631880"/>
            <a:ext cx="722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Simple, Connectionless “request/reply”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s and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9480" y="3206880"/>
            <a:ext cx="173988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19112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35114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072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72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35880" y="1606680"/>
            <a:ext cx="1054080" cy="2919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02360" y="3206880"/>
            <a:ext cx="173988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72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072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7280" y="4807080"/>
            <a:ext cx="1434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07280" y="5340240"/>
            <a:ext cx="1434960" cy="292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19112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114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38040" y="5899320"/>
            <a:ext cx="111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01960" y="335268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704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54864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7960" y="1576440"/>
            <a:ext cx="3292560" cy="141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mplicity: Connectio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fficient: Less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mall Micro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Sen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64080" y="2743200"/>
            <a:ext cx="1206360" cy="0"/>
          </a:xfrm>
          <a:prstGeom prst="line">
            <a:avLst/>
          </a:prstGeom>
          <a:ln w="1260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to OSI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yered Protoco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Client-Server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te Procedure Ca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oup 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Protocol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itical Parame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ame length, buffer size, own addr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ed Oper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, read, write, delet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rror C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pcode, parameter, oth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ssage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urce, destination, parameters,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d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:  Opcode Rea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:  Anything you can build using opc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-directional in desig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Process Machin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hine address as data link addres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machine243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eiver recognizes its own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le Process Machin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-part addres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4@machine243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cal_id@machine243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 global coordination needed for process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chine addresses are hardcod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ly assigned process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imple control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oes not scale to large system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le Process Machines (cont’d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ndomly selected 64-bit number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 global coordination or central control needed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ust broadcast to all machines, loads the network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ame 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able lookup is fas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entralized control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process name in network interf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ata Link uses process address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pecial hardwar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ng versus Non-Blocking 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ing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 sending processes awaiting a rep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spend receiving processes until message  receiv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n-Blocking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er regains control before message is s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er could wind up overwriting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lution 1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ernel buffer as well as message buffer (2 copies)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lution 2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nterrupt the sender  (complicates programming)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eiver regains control before recep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ell the kernel where to store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est the kernel to find out if it finished receiv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meout interrup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ffered versus Unbuffered 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buffer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eiver tells the kernel it’s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kernel stores one message to one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receiver unblocks and retrieves the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ld lose a message if sender sends before receiver calls recei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uffer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rnel stores received messages in a “mailbox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missed communic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rnel knows where to store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ffer space manage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ilboxes can fill up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le versus Unreliable 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: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network itself can lose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e Approach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st-Off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acknowledge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ndshak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knowledge all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/Rep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ke the sender wait for the actual answ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t just an acknowledgemen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knowledged Rep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estor waits for the Rep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plyor waits for an acknowledg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the Client-Server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ff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ximum Packet Size of the networ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ssage Acknowledgements (vice packet ack’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derlying Protocols (special packe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te Procedure Call (RP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RPC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rameter Pass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ynamic Bind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mantics in the Presence of Fail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Cannot Locate the 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st Request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st Reply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PC Protoco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knowledge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itical Pa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py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mer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 Area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or Server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sed Groups versus Open gro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er Groups versus Hierarchical Gro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oup Membershi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oup 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 and Receive Primitiv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omic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ssage Ord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lapping Gro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al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oup Communication in ISI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nspar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lexi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i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al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Processor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put &amp; Outp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entralized, Networked, and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yered Protoco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Client-Server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te Procedure Ca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oup 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ed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ISO OSI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Physical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Data Link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Network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Transport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Session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Presentation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Application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72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72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358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72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72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72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72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1911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4578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38040" y="5899320"/>
            <a:ext cx="111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7040" y="22860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7040" y="28195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7040" y="33526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7040" y="38862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7040" y="44197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704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7040" y="54864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75040" y="33847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112240" y="3612240"/>
            <a:ext cx="129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48560" y="2598840"/>
            <a:ext cx="18950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19920" y="3132000"/>
            <a:ext cx="166968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530" swAng="5406530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530" swAng="540653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3665520"/>
            <a:ext cx="166968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530" swAng="5406530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530" swAng="540653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48200" y="4044960"/>
            <a:ext cx="1895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4480" y="4273200"/>
            <a:ext cx="178056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6122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6122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7240" y="4197240"/>
            <a:ext cx="189504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575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575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72480" y="4426200"/>
            <a:ext cx="1783800" cy="13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1800" y="2065320"/>
            <a:ext cx="200592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0"/>
                </a:moveTo>
                <a:arcTo wR="10800" hR="10800" stAng="-5405435" swAng="5405435"/>
                <a:lnTo>
                  <a:pt x="10800" y="10800"/>
                </a:lnTo>
                <a:close/>
              </a:path>
              <a:path fill="none" w="21600" h="21600">
                <a:moveTo>
                  <a:pt x="10783" y="0"/>
                </a:moveTo>
                <a:arcTo wR="10800" hR="10800" stAng="-5405435" swAng="5405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0240" y="1555920"/>
            <a:ext cx="137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SO-OSI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greement on how communication is to proce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yp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-Orien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st establish a two-way link before proceed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telephone modem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-L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two-way link required, just send the mess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e-mai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ssage Pass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der identifies each lay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iler identifies  end of the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der &amp; Trailer “encapsulate” the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92680" y="3816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92680" y="4197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21280" y="34354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2680" y="45784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4959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926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92680" y="57214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92680" y="6102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6360" y="1835280"/>
            <a:ext cx="3873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250812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575160" y="3803760"/>
            <a:ext cx="3175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581280" y="2508120"/>
            <a:ext cx="0" cy="13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91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447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75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31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17960" y="3956040"/>
            <a:ext cx="774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507760"/>
            <a:ext cx="0" cy="14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660760" y="4107960"/>
            <a:ext cx="123192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66880" y="250776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203560" y="4260600"/>
            <a:ext cx="168912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2508120"/>
            <a:ext cx="0" cy="176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746360" y="4412880"/>
            <a:ext cx="21463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752480" y="250776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289160" y="4565520"/>
            <a:ext cx="2603520" cy="13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295280" y="2507760"/>
            <a:ext cx="0" cy="207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40240" y="4565520"/>
            <a:ext cx="2578320" cy="13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924680" y="2507760"/>
            <a:ext cx="0" cy="207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025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6240" y="1479600"/>
            <a:ext cx="114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72880" y="147960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Network Mes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895480"/>
            <a:ext cx="5259240" cy="2745000"/>
          </a:xfrm>
          <a:custGeom>
            <a:avLst/>
            <a:gdLst/>
            <a:ahLst/>
            <a:rect l="l" t="t" r="r" b="b"/>
            <a:pathLst>
              <a:path w="3313" h="1729">
                <a:moveTo>
                  <a:pt x="0" y="1536"/>
                </a:moveTo>
                <a:lnTo>
                  <a:pt x="1632" y="0"/>
                </a:lnTo>
                <a:lnTo>
                  <a:pt x="3312" y="960"/>
                </a:lnTo>
                <a:lnTo>
                  <a:pt x="912" y="1728"/>
                </a:lnTo>
                <a:lnTo>
                  <a:pt x="0" y="1536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0040" y="2901960"/>
            <a:ext cx="2654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of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 per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hysical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895480"/>
            <a:ext cx="5259240" cy="2211480"/>
          </a:xfrm>
          <a:custGeom>
            <a:avLst/>
            <a:gdLst/>
            <a:ahLst/>
            <a:rect l="l" t="t" r="r" b="b"/>
            <a:pathLst>
              <a:path w="3313" h="1393">
                <a:moveTo>
                  <a:pt x="0" y="1200"/>
                </a:moveTo>
                <a:lnTo>
                  <a:pt x="1632" y="0"/>
                </a:lnTo>
                <a:lnTo>
                  <a:pt x="3312" y="960"/>
                </a:lnTo>
                <a:lnTo>
                  <a:pt x="960" y="1392"/>
                </a:lnTo>
                <a:lnTo>
                  <a:pt x="0" y="120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40040" y="2901960"/>
            <a:ext cx="2654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ink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ta Link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2:39:36Z</dcterms:created>
  <dc:creator>Dean Hipwell</dc:creator>
  <dc:description/>
  <dc:language>en-US</dc:language>
  <cp:lastModifiedBy>hipwelld</cp:lastModifiedBy>
  <dcterms:modified xsi:type="dcterms:W3CDTF">2001-01-15T19:03:35Z</dcterms:modified>
  <cp:revision>16</cp:revision>
  <dc:subject>CST400 - Operating System Theory &amp; Design</dc:subject>
  <dc:title>Chap 9 - Communication in Distributed Systems</dc:title>
</cp:coreProperties>
</file>