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1440" y="36000"/>
            <a:ext cx="7687800" cy="425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76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76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76"/>
              </a:spcBef>
              <a:buClr>
                <a:srgbClr val="0066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25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T400 - Operating System Theory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35800" y="6629400"/>
            <a:ext cx="79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:  </a:t>
            </a:r>
            <a:fld id="{77063874-F437-4D2A-8074-F6627B8F7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61440" y="6629400"/>
            <a:ext cx="82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400c13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13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ed Fil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522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447920"/>
            <a:ext cx="4419360" cy="6094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ST400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rating Systems Theory &amp;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029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w S. Tanenbaum. “Modern Operating Systems”. Prentice-Hall.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epared by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an Hipwell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ed File System Imple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Us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ystem Structu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ach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ent-Server Caching Concep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che Consistenc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pli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n Exampl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essons Learne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nds in Distributed Fil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New Hard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calabilit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ide Area Network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obile User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ault Toleran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tributed File System Desig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tributed File System Implement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rends in Distributed File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tributed File System Desig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tributed File System Implement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rends in Distributed File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and P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65960" indent="-1659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Single CPU Syste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cess, Memory, File, I/O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5960" indent="-1659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Centralized, Networked, and Distributed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vantag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Price/Performance, Reliability, Sharing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isadvantag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Software, Networks, Security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astes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Tightly coupled software on tightly coupled bus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marL="165960" indent="-1659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Communication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SO-OSI Model (Seven Layers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tocols (Connection-Oriented, Connectionless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lient-Server Model (Microkernel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5960" indent="-1659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Synchronization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locks, Mutual Exclusion, Election Algorithm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5960" indent="-1659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ocesses in Distributed Systems -- THREAD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165960" indent="-1659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istributed Files Syste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ed File System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ervice Interfa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Service: specifies what the file system off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rimitives Availabl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arameter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ctions Perform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Server: Helps implement the file servi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rectory Server Interfa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sic Concep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aming Transparenc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wo-Level Nam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mantics of File Shar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ervice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undamental Structu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IX &amp; DOS: sequence of byt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inframe: record structur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ttribut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service handles attributes separate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odifi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mmutable” in some distributed syste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reate &amp; Read onl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upport file caching &amp; replica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tec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pability Control Li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icket to access with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ccess Control Li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users who can acces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ervice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asic Typ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pload/Downloa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Only operations are Read and Writ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oves whole fil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dvantag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imple, Efficient.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sadvantag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eed local storage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Wasteful if only small part needed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Must control write-backs.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te Access Mod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any kinds of operation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ile system runs on the server, not the clien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dvantag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ittle client space needed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sadvantag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omplex interface that everyone must implement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ory Server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asic 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vides for creating &amp; deleting directori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pecifies alphabet &amp; syntax for nam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ierarch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rees versus Graph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Graphs can allow pointers to arbitrary directori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ay result in “orphan” directori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ltiple Machine Stor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fficult to get a snapsho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lobal Root Direct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f there is one: have it point to server root directori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ory Server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Naming Transparenc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cation Transparenc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ath name does not indicate physical location of serv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cation Independe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ath name does not include machine name at all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wo-Level Nam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ymbolic Na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nvenient for people and programs, but lo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inary Na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nvenient for system use, i.e. shor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lternative Nam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ymbolic Lin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aps directory entry onto server str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 capability as binary name pointer to  machin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ntics of File Sha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150480" indent="-1504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NIX Semantics (Single-Processor System)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398160" indent="-14652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ad” always returns what was last writte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398160" indent="-14652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rict time-order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0480" indent="-1504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tributed Syst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398160" indent="-14652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IX semantics are enforceable if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54840" indent="-156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ingle file server and No client cach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902520" indent="-14652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isadvantage: Poor performance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398160" indent="-14652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ching solves poor performa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54840" indent="-156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eads to incoherenc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398160" indent="-14652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rite-Back solves incoherenc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54840" indent="-156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ncreases net traffic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50480" indent="-1504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tributed Alternativ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398160" indent="-14652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ssion Semantics lock open files until writte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54840" indent="-156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ut not effective with child process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398160" indent="-14652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ke all files immutab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54840" indent="-156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lways writes to new fil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398160" indent="-14652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 Atomic Transactions:  All-or-Noth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3T23:20:50Z</dcterms:created>
  <dc:creator>Dean Hipwell</dc:creator>
  <dc:description/>
  <dc:language>en-US</dc:language>
  <cp:lastModifiedBy>hipwelld</cp:lastModifiedBy>
  <cp:lastPrinted>1996-08-26T00:32:02Z</cp:lastPrinted>
  <dcterms:modified xsi:type="dcterms:W3CDTF">2001-01-15T19:03:30Z</dcterms:modified>
  <cp:revision>8</cp:revision>
  <dc:subject>CST400 - Operating System Theory &amp; Design</dc:subject>
  <dc:title>Chap 13 - Distributed File System</dc:title>
</cp:coreProperties>
</file>