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8959856A-206D-4FE3-9DCF-B5B6D932A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3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Thre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PU Utilization is expressed as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ere: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 = the fraction of time in an I/O wait sta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 = the number of process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ized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ccounts for different I/O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0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743200" y="1828800"/>
                <a:ext cx="3876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tilizat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4495680"/>
                <a:ext cx="5796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tilizat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Multi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 = 0.80 or 80% of time waiting for I/O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 = 4, four process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r CPU Utilization of 59.04%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(See Tanenbaum Figure 3-2 for a variety of examples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362320" y="2133720"/>
                <a:ext cx="437976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ilizati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96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 Utiliza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82640" y="4197240"/>
            <a:ext cx="120672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82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6280" y="40705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542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542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4240" y="48070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4240" y="45021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4240" y="41972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5600" y="574668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.0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6280" y="125100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258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58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48070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5840" y="45021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1972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5840" y="35877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5840" y="32828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5840" y="29782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5840" y="26733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5840" y="38926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07200" y="574668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5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7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7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7440" y="48070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7440" y="45021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7440" y="41972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7440" y="35877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7440" y="32828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7440" y="29782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7440" y="26733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7440" y="38926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7440" y="20638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7440" y="17589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7440" y="14540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7440" y="11494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7440" y="23684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78800" y="574668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.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92920" y="5746680"/>
            <a:ext cx="1434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tion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31520" y="6127920"/>
            <a:ext cx="130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7200" y="612792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.5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760" y="6127920"/>
            <a:ext cx="90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0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39440" y="544212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440" y="399420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39440" y="247032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39440" y="125100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Increasing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PU Utilization equation can be applied to analyze real-time 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, for four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aning each process gets 14.76% of the available CPU processing ti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895480" y="1940040"/>
                <a:ext cx="3214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66880" y="3159000"/>
                <a:ext cx="370548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of System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gramm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ixed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 come in different siz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rtition the memory based on expected siz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ne at system start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hedule the memory according to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ut small processes in small part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ut large processes in large part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0216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2160" y="3664080"/>
            <a:ext cx="120636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44760" y="2057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82640" y="2673360"/>
            <a:ext cx="1206720" cy="273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82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542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4240" y="511164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542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42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542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56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305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35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400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49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216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216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0216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0216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216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216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02160" y="290196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008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6200" y="420372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008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5008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008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008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5008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0080" y="290196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83040" y="205740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93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642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688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2604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210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75480" y="5746680"/>
            <a:ext cx="1242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2924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70960" y="5746680"/>
            <a:ext cx="1088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 Fixed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 with Fixed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qual partitions wastes ma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O queue may result in a small process using a large part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eking large processes first may starve small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ocation and Prot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aded separately, each job would occupy memory from Address 0 to Address X depending on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Jobs will be loaded to different starting addresses - called the Base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 #1: Add base address when load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 #2: Add base address register during execu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y job could address any memory location, even if it’s outside the program’s memory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 #1: Use a 4-bit protection key within the Program Status Word (i.e. the process table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 #2: Use a Limit Address register to identify the top of the program’s memory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rogramming with Variable Parti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 with Bit Map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 with Linked Lis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 with the Buddy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llocation of Swap Sp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nalysis of Swapp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34360" y="4495680"/>
            <a:ext cx="6897600" cy="1082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ving Processes from Main Memory to Disk and Back..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gramm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Variable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number, location and size of partitions va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s Memory Utiliz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s “Growing” and “Shrinking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licates Allocation and Deallo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ternal Fragmentation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oles between process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“Hole” Management to acquire contiguou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mpac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 Relo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rganiz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wapp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irtual Memory (i.e. Paging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Replacement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deling Paging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 for Pag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g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0216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44760" y="2057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82640" y="2673360"/>
            <a:ext cx="1206720" cy="273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82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542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4240" y="511164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42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42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542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256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305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35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400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49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0216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216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0216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216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0216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216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02160" y="305424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5008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5008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5008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5008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5008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008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50080" y="305424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3040" y="205740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93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642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688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2604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10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75480" y="5746680"/>
            <a:ext cx="1242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2924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70960" y="5746680"/>
            <a:ext cx="1088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02160" y="3740040"/>
            <a:ext cx="120636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5620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56200" y="40514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0864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976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7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76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76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76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7640" y="4349880"/>
            <a:ext cx="120672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976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97360" y="5746680"/>
            <a:ext cx="932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041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04120" y="38228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169040" y="4336560"/>
            <a:ext cx="216000" cy="24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169040" y="3803760"/>
            <a:ext cx="21600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 Variable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824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4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8440" y="3587760"/>
            <a:ext cx="12067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8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8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8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8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68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440" y="3740040"/>
            <a:ext cx="120672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74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8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404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40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0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404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40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40440" y="4349880"/>
            <a:ext cx="120672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0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6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46920" y="38228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54040" y="54165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4040" y="5111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54040" y="48070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4040" y="45021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54040" y="41972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54040" y="38926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54040" y="35877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4040" y="32828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54040" y="29782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54040" y="26733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40040" y="54165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40040" y="5111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40040" y="48070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40040" y="45021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40040" y="41972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40040" y="38926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40040" y="35877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40040" y="32828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40040" y="29782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40040" y="26733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544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54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54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544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54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54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54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60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60920" y="40514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26040" y="54165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26040" y="5111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26040" y="48070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6040" y="45021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26040" y="41972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26040" y="38926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26040" y="35877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26040" y="32828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26040" y="29782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26040" y="26733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12040" y="54165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12040" y="5111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12040" y="48070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12040" y="45021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12040" y="41972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12040" y="38926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12040" y="35877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12040" y="32828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2040" y="29782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12040" y="26733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5840" y="567072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5670720"/>
            <a:ext cx="774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20280" y="5823000"/>
            <a:ext cx="209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83760" y="5823000"/>
            <a:ext cx="173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69760" y="5823000"/>
            <a:ext cx="1740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t Ma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p assigns one bit per allocation unit of memory: 1=allocated, 0=fre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824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2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4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2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440" y="3740040"/>
            <a:ext cx="120672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8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540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567072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03280" y="5670720"/>
            <a:ext cx="774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8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161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73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68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114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686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258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9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642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214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86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118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67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73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9311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354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400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972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54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879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928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500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072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40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453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025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597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8280" y="556272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3076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8324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936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1184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6880" y="61722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193920" y="58672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00400" y="5873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77320" y="5721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1080" y="2698920"/>
            <a:ext cx="1995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or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3156120"/>
            <a:ext cx="4950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Address (in terms of allocation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98040" y="3537000"/>
            <a:ext cx="173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(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3360" y="3054240"/>
            <a:ext cx="241560" cy="234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974600" y="3511440"/>
            <a:ext cx="393480" cy="189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2160" y="3892680"/>
            <a:ext cx="1079280" cy="151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24560" y="3994200"/>
            <a:ext cx="2756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to Next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813040" y="4349880"/>
            <a:ext cx="123192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Linked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ign one Record for Each Segment (process or hole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4540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8560" y="5670720"/>
            <a:ext cx="1272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5400" y="5670720"/>
            <a:ext cx="69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8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161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73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68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114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86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258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9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642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214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86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18320" y="542304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167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73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311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354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400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972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654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79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928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500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072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40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453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025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1597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8280" y="556272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3076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8324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936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1184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6880" y="61722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193920" y="58672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00400" y="5873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77320" y="5721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440" y="3587760"/>
            <a:ext cx="12067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2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2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8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1400" y="26989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851160" y="3054240"/>
            <a:ext cx="241560" cy="234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Linked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moving a User and Creating a Ho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4540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8480" y="5670720"/>
            <a:ext cx="932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5400" y="5670720"/>
            <a:ext cx="69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58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161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73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68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114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86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258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9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642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214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84800" y="542304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8320" y="542304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23240" y="5423040"/>
            <a:ext cx="43164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80440" y="5423040"/>
            <a:ext cx="43164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9311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54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400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72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54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879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928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500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072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40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3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025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597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8280" y="556272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3076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30960" y="4800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936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1184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6880" y="61722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193920" y="58672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5873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77320" y="5721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876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876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876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876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876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876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8760" y="305424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524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5240" y="40514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18320" y="466092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23240" y="4660920"/>
            <a:ext cx="43164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480440" y="4660920"/>
            <a:ext cx="43164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37640" y="466092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324480" y="479376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51116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77320" y="4959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851520" y="5105520"/>
            <a:ext cx="12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99600" y="2698920"/>
            <a:ext cx="168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927480" y="3054240"/>
            <a:ext cx="165240" cy="158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Linked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ding a User, but Leaving a Ho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es on Linked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rst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nds the first hole big enough to load the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fragment large ho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ext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embers where it made the last assign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est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arches entire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 smallest hole that is adequ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orst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 biggest hole avail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Quick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tegorizes holes as small, medium, or lar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s search time over Best F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he Buddy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vide Memory Space on Powers of 2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,024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12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28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til the smallest Hole needed is reach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cation and Deallocation is fa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s search time necessa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nal Fragmentation (Process is too small to fit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82840" y="2057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82640" y="2673360"/>
            <a:ext cx="1206720" cy="303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978280" y="419724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640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9686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735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8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830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4024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591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2924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7960" y="1911240"/>
            <a:ext cx="216000" cy="216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82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16360" y="495936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163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636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54440" y="5340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544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544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54440" y="49593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9288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928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9288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9288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9288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3096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309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3096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3096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3096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330960" y="503568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169040" y="5340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690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1690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69040" y="49593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9040" y="5416560"/>
            <a:ext cx="7495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69040" y="5035680"/>
            <a:ext cx="7495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69040" y="4425840"/>
            <a:ext cx="74952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69040" y="3359160"/>
            <a:ext cx="74952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dy System All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835280" y="205740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5080" y="2673360"/>
            <a:ext cx="1206360" cy="303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360" y="56707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0360" y="419724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6280" y="231768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161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210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256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305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435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92680" y="2063880"/>
            <a:ext cx="2156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112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8132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40040" y="1911240"/>
            <a:ext cx="216000" cy="216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303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68440" y="495936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84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684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0688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68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0688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688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4496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449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3040" y="5340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30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30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83040" y="49593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3040" y="5416560"/>
            <a:ext cx="7495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83040" y="5035680"/>
            <a:ext cx="7495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2148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14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2148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2148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2148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21480" y="503568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21480" y="45784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21480" y="4197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956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595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956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956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956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9560" y="503568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59560" y="45784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59560" y="4197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59560" y="4578480"/>
            <a:ext cx="74916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97640" y="5340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3976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976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97640" y="49593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397640" y="5416560"/>
            <a:ext cx="7495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97640" y="5035680"/>
            <a:ext cx="7495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97640" y="45784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97640" y="4197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97640" y="4578480"/>
            <a:ext cx="74952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7640" y="343548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97640" y="267336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23608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2360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23608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3608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23608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36080" y="503568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236080" y="45784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236080" y="4197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236080" y="4578480"/>
            <a:ext cx="74916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236080" y="34354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236080" y="267336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36080" y="3435480"/>
            <a:ext cx="74916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User2=128K, User3=256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2768400" y="5746680"/>
            <a:ext cx="1398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39840" y="52642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9840" y="259704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139840" y="412128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39840" y="48830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39840" y="5340240"/>
            <a:ext cx="74952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39840" y="4959360"/>
            <a:ext cx="7495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9840" y="45021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39840" y="41212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9840" y="4502160"/>
            <a:ext cx="74952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39840" y="335916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39840" y="25970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39840" y="3359160"/>
            <a:ext cx="74952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30560" y="52642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30560" y="259704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30560" y="41212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30560" y="48830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30560" y="5340240"/>
            <a:ext cx="7491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30560" y="495936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30560" y="45021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30560" y="41212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30560" y="335916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30560" y="25970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30560" y="3359160"/>
            <a:ext cx="74916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044960" y="52642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44960" y="259704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044960" y="41212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44960" y="48830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44960" y="5340240"/>
            <a:ext cx="7491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44960" y="495936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4960" y="335916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44960" y="25970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44960" y="3359160"/>
            <a:ext cx="74916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35240" y="4146480"/>
            <a:ext cx="2092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dy System Deall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5960" y="1835280"/>
            <a:ext cx="791208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9840" y="2978280"/>
            <a:ext cx="90180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4240" y="2978280"/>
            <a:ext cx="394992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 (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8720" y="4121280"/>
            <a:ext cx="280656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Cach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68720" y="5264280"/>
            <a:ext cx="280656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ach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58840" y="247032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1000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11360" y="36133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128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46960" y="36133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512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1720" y="47563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512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93560" y="5899320"/>
            <a:ext cx="95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2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cation of Swap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wap Space is Disk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ame algorithms are used as main memory swapp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llocation Units must conform to the disk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xed part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qual size blocks within the parti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ach swap may move the process to a different place on the dis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809880" y="2908440"/>
                <a:ext cx="1791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1" name=""/>
          <p:cNvSpPr/>
          <p:nvPr/>
        </p:nvSpPr>
        <p:spPr>
          <a:xfrm>
            <a:off x="2868120" y="6242040"/>
            <a:ext cx="325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fer to Tanenbaum Section 3.2.6, page 88, for det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of Swapp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y Percent Ru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number of holes is half the number of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used Memory Ru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e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 = the fraction of memory wasted in ho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 = ratio of hole size to process size (e.g. 1/2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, if k=1/2, f = 0.2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aning 20% of memory is wasted in ho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Memory (i.e. Pag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Tab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ple Page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-Level Page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xamples of Paging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-Level Paging:  The PDP-1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-Level Paging:  The VA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e-Level Paging:  The SPAR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-Level Paging:  The MA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ociative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Zero-Level Paging:  The MIPS R200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verted Page Tab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 size out paced memory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programs tended to fill up memory, too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bined size of program, data, and stack can exceed the amount of physical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 active parts of program in ma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eave inactive parts on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rtual Address: those generated by the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ysical Address: those available in ma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process of mapping program addresses to physical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978280" y="30542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978280" y="33591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78280" y="36640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978280" y="39686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8280" y="42735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53160" y="551808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43280" y="3003480"/>
            <a:ext cx="100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18840" y="330840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-128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77360" y="361332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0-19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377360" y="391788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0-256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7360" y="422280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0-32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8280" y="45784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8280" y="48830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78280" y="5187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77360" y="452772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0-38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77360" y="483228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0-448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77360" y="513720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0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78400" y="30542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540840" y="3003480"/>
            <a:ext cx="100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20880" y="34606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23680" y="5975280"/>
            <a:ext cx="600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A 5MB application onto a 640KB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s: divide the virtual address space into equal uni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Frames: corresponding physical address p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978280" y="36640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78280" y="39686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8280" y="42735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78280" y="45784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78280" y="48830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53160" y="612792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84760" y="361332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801800" y="391788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60320" y="42228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660320" y="45277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60320" y="4832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78280" y="5187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8280" y="54928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78280" y="5797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60320" y="51372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60320" y="5442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518840" y="574668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44920" y="612792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247720" y="36640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5247720" y="39686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247720" y="427356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247720" y="45784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247720" y="48830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6412320" y="361332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411240" y="391788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6409440" y="42228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6409440" y="45277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6409440" y="4832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5247720" y="5187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247720" y="54928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5247720" y="5797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6409440" y="51372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6409440" y="5442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409440" y="5746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6760" y="361332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42880" y="36892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27400" y="3809880"/>
            <a:ext cx="1117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127400" y="4102200"/>
            <a:ext cx="1117800" cy="93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4127400" y="4406760"/>
            <a:ext cx="1117800" cy="1244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4K Pag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Active Pag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Inactive Pages on Dis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Size is 64KB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0 Virtual Pages (5MB application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 Physical Page Frames (640K machine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758960" y="25970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758960" y="29019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58960" y="32068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58960" y="3511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58960" y="38163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34200" y="506088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6580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828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100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100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4100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8960" y="41212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758960" y="44258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758960" y="47307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00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100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9520" y="468000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35280" y="50608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6315120" y="25970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6315120" y="29019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6315120" y="320688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315120" y="3511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315120" y="38163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747900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4786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47612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747612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47612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6315120" y="41212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6315120" y="44258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315120" y="47307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747612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47612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7476120" y="46800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728360" y="163188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294960" y="16318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51440" y="2743200"/>
            <a:ext cx="11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051440" y="3034800"/>
            <a:ext cx="1117440" cy="939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051440" y="3339720"/>
            <a:ext cx="1117440" cy="1244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037680" y="25970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037680" y="29019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037680" y="320688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3037680" y="35114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3037680" y="38163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037680" y="412128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037680" y="44258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037680" y="47307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023640" y="193680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412128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412128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12128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01680" y="605160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68360" y="1327320"/>
            <a:ext cx="1342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172120" y="25970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172120" y="29019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72120" y="3206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172120" y="3511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5172120" y="3816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5172120" y="4121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172120" y="4425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5172120" y="4730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959360" y="1378080"/>
            <a:ext cx="1434960" cy="532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58960" y="25970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758960" y="29019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758960" y="32068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58960" y="3511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758960" y="38163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34200" y="506088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6580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28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100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4100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4100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758960" y="41212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758960" y="44258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758960" y="47307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100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4100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99520" y="468000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35280" y="50608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315120" y="25970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6315120" y="29019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6315120" y="320688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6315120" y="3511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6315120" y="38163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747900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4786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747612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747612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747612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315120" y="41212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6315120" y="44258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315120" y="47307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747612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747612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476120" y="46800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728360" y="163188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71280" y="16318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23640" y="193680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053520" y="5111640"/>
            <a:ext cx="97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053520" y="5416560"/>
            <a:ext cx="9781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053520" y="5721480"/>
            <a:ext cx="9781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34640" y="605160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1040" y="1327320"/>
            <a:ext cx="11170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18796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18796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D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18796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C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412128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F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12128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C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12128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B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34840" y="605160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1440" y="2743200"/>
            <a:ext cx="11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051440" y="3034800"/>
            <a:ext cx="1117440" cy="939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4051440" y="3339720"/>
            <a:ext cx="1117440" cy="1244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3037680" y="25970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3037680" y="29019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037680" y="320688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037680" y="35114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037680" y="38163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3037680" y="412128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3037680" y="44258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3037680" y="47307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172120" y="25970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5172120" y="29019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172120" y="3206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5172120" y="3511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172120" y="3816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172120" y="4121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5172120" y="4425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172120" y="4730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ing Using Two’s Compl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4807080" y="1378080"/>
            <a:ext cx="1434960" cy="532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606680" y="25970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606680" y="2901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606680" y="32068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06680" y="3511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06680" y="381636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681560" y="506088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1316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020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872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872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872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06680" y="41212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6680" y="44258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06680" y="47307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872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872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47240" y="468000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83000" y="50608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162120" y="25970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6162120" y="290196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6162120" y="32068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162120" y="3511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6162120" y="38163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32672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73256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732384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732384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32384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162120" y="41212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6162120" y="44258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6162120" y="47307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732384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732384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7323840" y="46800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75720" y="163188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19000" y="16318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71360" y="193680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682360" y="635652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928760" y="1327320"/>
            <a:ext cx="11170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82560" y="635652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2901960" y="60260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5035680" y="60260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D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3967920" y="6026040"/>
            <a:ext cx="97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C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44520" y="5770440"/>
            <a:ext cx="2406600" cy="820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WRONG!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e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 rot="16200000">
            <a:off x="5949720" y="5873760"/>
            <a:ext cx="749520" cy="596880"/>
          </a:xfrm>
          <a:custGeom>
            <a:avLst/>
            <a:gdLst>
              <a:gd name="textAreaLeft" fmla="*/ 202680 w 749520"/>
              <a:gd name="textAreaRight" fmla="*/ 546840 w 749520"/>
              <a:gd name="textAreaTop" fmla="*/ 161280 h 596880"/>
              <a:gd name="textAreaBottom" fmla="*/ 43560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237" y="21600"/>
                </a:lnTo>
                <a:lnTo>
                  <a:pt x="7363" y="216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90196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90196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90196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03568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503568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D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503568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C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3967920" y="5111640"/>
            <a:ext cx="97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F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3967920" y="5416560"/>
            <a:ext cx="9781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C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967920" y="5721480"/>
            <a:ext cx="9781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B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898800" y="2743200"/>
            <a:ext cx="1117800" cy="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3898800" y="3034800"/>
            <a:ext cx="1117800" cy="93996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898800" y="3339720"/>
            <a:ext cx="1117800" cy="124452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886120" y="25970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2886120" y="29019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2886120" y="3206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2886120" y="3511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886120" y="3816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2886120" y="4121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886120" y="4425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886120" y="4730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5019840" y="25970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019840" y="29019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019840" y="3206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5019840" y="3511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019840" y="3816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5019840" y="4121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019840" y="4425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5019840" y="4730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898800" y="3060720"/>
            <a:ext cx="1117800" cy="88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ding Page 1 to Frame 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978280" y="36640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78280" y="39686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78280" y="42735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78280" y="45784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978280" y="48830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053160" y="612792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84760" y="361332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01800" y="391788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660320" y="42228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60320" y="45277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660320" y="4832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8280" y="5187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78280" y="54928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78280" y="5797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60320" y="51372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60320" y="5442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518840" y="574668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68600" y="612792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5172120" y="366408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5172120" y="39686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5172120" y="42735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5172120" y="45784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5172120" y="48830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6336000" y="361332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6335640" y="391788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6333120" y="42228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333120" y="45277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6333120" y="4832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5172120" y="51879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172120" y="54928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5172120" y="5797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333120" y="51372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333120" y="5442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333120" y="5746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56760" y="361332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666560" y="36892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3873600" y="4432320"/>
            <a:ext cx="1549440" cy="279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4711320" y="4508640"/>
            <a:ext cx="863640" cy="11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025880" y="5638680"/>
            <a:ext cx="71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78400" y="559440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326120" y="452772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Fa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gram in Main Memory tries to access a memory location that isn’t load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PU “Traps” to the O/S = Page Faul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/S swaps out a little used Page Frame (a) for the needed virtual Page (b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39840" y="3664080"/>
            <a:ext cx="12067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9640" y="589932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4720" y="3537000"/>
            <a:ext cx="95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9840" y="5568840"/>
            <a:ext cx="12067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7240" y="353700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64080" y="3664080"/>
            <a:ext cx="120636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64080" y="3664080"/>
            <a:ext cx="12063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7960" y="3664080"/>
            <a:ext cx="120636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7960" y="3664080"/>
            <a:ext cx="12063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7960" y="5568840"/>
            <a:ext cx="12063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9840" y="1378080"/>
            <a:ext cx="1206720" cy="22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64080" y="1378080"/>
            <a:ext cx="1206360" cy="22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7960" y="1378080"/>
            <a:ext cx="1206360" cy="22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Memory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ing Summary (so fa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track of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rtual Pages of the entire application (e.g. 5 M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mount of RAM avail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er application (e.g. 640 KB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ximum (e.g. 16 MB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ximum allowable framing space (e.g. 64 K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track of Pages and Fram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pping of Pages-to-Frames for addr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s that are actually loaded into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ther Pages map UP or DOWN into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d or subtract the Base Regis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east used Frame in case of a tra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s replace the high-order address bi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 number (index) replaced with Frame number (map address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-order address bits remain unchang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sent/Absent” bit indicates whether a Page has been mapped into a Fr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” bits indicate activity in the Fr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 Use” bit indicates empty and full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s can be lar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 or two table references per instr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pping and remapping must be fa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98756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8756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756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98756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98756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98756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8756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8756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0440" y="132732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66840" y="132732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71520" y="2063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71520" y="2368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371520" y="2673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371520" y="2978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371520" y="3282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71520" y="3587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371520" y="38926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71520" y="41972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08280" y="1631880"/>
            <a:ext cx="80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98756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98756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98756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875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987560" y="5721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1520" y="45021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8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371520" y="48070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9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371520" y="51116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A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371520" y="54165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B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1520" y="57214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C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14240" y="2055600"/>
            <a:ext cx="0" cy="39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67336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67336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7336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67336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67336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67336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7336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67336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558160" y="1327320"/>
            <a:ext cx="676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7336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67336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7336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6733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673360" y="5721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50216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216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0216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50216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0216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0216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0216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50216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337280" y="1327320"/>
            <a:ext cx="775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50216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0216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0216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021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502160" y="5721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8796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8796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18796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18796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18796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8796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8796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8796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093280" y="1631880"/>
            <a:ext cx="63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18796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8796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18796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187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87960" y="5721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3342600" y="20638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3342600" y="2368440"/>
            <a:ext cx="917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3342600" y="267336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3342600" y="29782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3342600" y="3282840"/>
            <a:ext cx="917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3342600" y="358776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3342600" y="38926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342600" y="4197240"/>
            <a:ext cx="917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342600" y="450216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3342600" y="48070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3342600" y="5111640"/>
            <a:ext cx="917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342600" y="541656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342600" y="57214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252240" y="132732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78080" y="2209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378080" y="25146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378080" y="34290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378080" y="40384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78080" y="55627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857920" y="2063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5857920" y="2368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5857920" y="2673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5857920" y="2978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57920" y="3282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857920" y="3587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5857920" y="38926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5857920" y="41972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5857920" y="45021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5857920" y="48070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5857920" y="51116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5857920" y="54165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857920" y="57214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6200640" y="2055600"/>
            <a:ext cx="0" cy="39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8120" y="605160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494120" y="6051600"/>
            <a:ext cx="101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466040" y="1631880"/>
            <a:ext cx="91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7458120" y="2063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7458120" y="2368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7458120" y="2673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7458120" y="2978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7458120" y="3282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458120" y="3587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458120" y="38926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458120" y="41972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458120" y="45021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8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458120" y="48070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9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458120" y="51116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864480" y="2209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6864480" y="2508120"/>
            <a:ext cx="596880" cy="9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 flipV="1">
            <a:off x="7794720" y="2055960"/>
            <a:ext cx="1728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6864480" y="2813040"/>
            <a:ext cx="596880" cy="12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6864480" y="5251320"/>
            <a:ext cx="59688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64480" y="2444760"/>
            <a:ext cx="596880" cy="97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54064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54064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54064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54064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54064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54064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54064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54064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445960" y="1327320"/>
            <a:ext cx="635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54064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54064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54064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14400" y="6272280"/>
            <a:ext cx="43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94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-Level 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voids keeping all page tabl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2-bit address space = 4 Giga By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 KB Frame size = 12 bi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 bits remaining = 1,048,576 Pages (1 MB of RAM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 bits to Top-Level Table = 1,024 ent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 bits to three Second Level Tables = 3,072 ent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eds only 4 KB of 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p-Level Page faults are always for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5416560" y="2978280"/>
            <a:ext cx="25020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Fram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5680" y="2978280"/>
            <a:ext cx="3682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21280" y="2978280"/>
            <a:ext cx="9014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740040" y="2978280"/>
            <a:ext cx="3682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359160" y="2978280"/>
            <a:ext cx="3682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78280" y="2978280"/>
            <a:ext cx="3682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6680" y="2978280"/>
            <a:ext cx="1358640" cy="44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264280" y="2203560"/>
            <a:ext cx="13968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02160" y="3435480"/>
            <a:ext cx="128268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359160" y="2216160"/>
            <a:ext cx="5205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498480" y="3422520"/>
            <a:ext cx="88920" cy="12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368440" y="3422520"/>
            <a:ext cx="82548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880160" y="1549440"/>
            <a:ext cx="1456560" cy="687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Ab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29400" y="3627360"/>
            <a:ext cx="2620800" cy="983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,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read/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662560" y="4673520"/>
            <a:ext cx="1878480" cy="687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Un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78800" y="1549440"/>
            <a:ext cx="2090520" cy="687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Referen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Unreferen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29200" y="3824280"/>
            <a:ext cx="1798920" cy="983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enab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disab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75480" y="4956120"/>
            <a:ext cx="2498400" cy="1279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,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XX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X =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1 =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Table E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4400" y="6272280"/>
            <a:ext cx="43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97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-Level Paging: The PDP-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16-bit (64 K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struction vs Data Space = 1-b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4 M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me Size = 8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25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8 Entries (i.e. 64 KB allowed in RAM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x Process Size = 128 KB (Instructions and data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ple (Only one level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st (Implemented in hardware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es not scale up to larger machin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4400" y="6272280"/>
            <a:ext cx="43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99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Level Paging: The VA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32-bit (4 G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, Stack, System = 2 bits of 32-bit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2 MB to 4 GB (4 partition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me Size = 512 By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8,388,608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2,097,152 Entries (up to 8 M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s Page Table larger than physical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s O/S in each processes addres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ext switching highly effici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 references for each memory ac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Size too smal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14040" y="6272280"/>
            <a:ext cx="447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100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-Level Paging: The SPAR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32-bit (4 G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Up to 4 G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me Size = 4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1,048,57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256, 64, and 64 entries per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pports multiple contexts (i.e. processe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ssociative memory to speed look-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14040" y="6272280"/>
            <a:ext cx="447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101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-Level Paging: The M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32-bit (4 G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Up to 4 G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me Size = Programmable  (e.g. 2 KB, 11 bit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Programmable (e.g. 2,097,15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Programmable (e.g. 21 bits, 4 level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ly sophistica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umber of levels are programmable: 0 to 4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ok-up fields are programma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 look-ups per memory refer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ociative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bserv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requires memory space and CPU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 tend to make a large number of references to a small number of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p pages to frames without using page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07040" indent="-168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 Tables are stored in RA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07040" indent="-168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ociative Memory located with MMU or on CPU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 number of entries low (8 to 3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mediately access “hit”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ok-up misses (Page Fault, Protection Fault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s paging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cost of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78680" y="1149480"/>
            <a:ext cx="2120760" cy="12826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9840" y="615960"/>
            <a:ext cx="2197080" cy="1816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9840" y="4273560"/>
            <a:ext cx="21970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9840" y="4883040"/>
            <a:ext cx="2197080" cy="12067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66200" y="31561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8680" y="5797440"/>
            <a:ext cx="21207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9840" y="2444760"/>
            <a:ext cx="2197080" cy="1816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56320" y="6568920"/>
            <a:ext cx="3217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User’s Guide, MS-DOS, Ver 6.2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; Microsoft Corp.; 1994; pg 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66560" y="5289480"/>
            <a:ext cx="77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66560" y="4375080"/>
            <a:ext cx="77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3960" y="1708200"/>
            <a:ext cx="8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9840" y="3968640"/>
            <a:ext cx="219708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800" y="40705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800" y="22417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2960" y="4680000"/>
            <a:ext cx="101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060200" y="24382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060200" y="42670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060200" y="487692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060200" y="60958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920" y="58993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8680" y="5492880"/>
            <a:ext cx="21207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Comm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8680" y="5187960"/>
            <a:ext cx="21207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Comm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8680" y="4883040"/>
            <a:ext cx="21207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8680" y="4578480"/>
            <a:ext cx="21207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8680" y="4273560"/>
            <a:ext cx="21207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8680" y="3968640"/>
            <a:ext cx="21207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8680" y="3359160"/>
            <a:ext cx="212076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9880" y="609588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9880" y="3346560"/>
            <a:ext cx="18158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8680" y="3054240"/>
            <a:ext cx="21207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8680" y="2749680"/>
            <a:ext cx="21207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349880" y="2736360"/>
            <a:ext cx="1815840" cy="153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8680" y="2444760"/>
            <a:ext cx="2120760" cy="291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49880" y="2432160"/>
            <a:ext cx="18158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-DOS Main Memory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-Level Paging: The M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32-bit (4 G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Up to 4 G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Size = 4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1,048,57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ociative Memory = 64 entries, on-chi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ery simple design (No page table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ery fast (Memory is on the CPU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 “misses” cause a trap to the O/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formance depen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it” Ratio,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ociative Memory Access Time, and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AM Access Ti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ted 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bserva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creased virtual address space = 64-bits (20 T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bilized physical address space &lt; 4 G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rganize page tables around physical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is independent of virtual addres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ssociative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sses require disk access to upright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ed hashing algorithm for inverted table look-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235080" y="1835280"/>
            <a:ext cx="90144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149480" y="1835280"/>
            <a:ext cx="67284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835280" y="1835280"/>
            <a:ext cx="82548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87960" y="1835280"/>
            <a:ext cx="901800" cy="291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02160" y="1835280"/>
            <a:ext cx="673200" cy="291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8280" y="1835280"/>
            <a:ext cx="825480" cy="291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35080" y="21398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35080" y="23684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5080" y="25970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35080" y="28256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35080" y="30542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35080" y="32828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35080" y="4883040"/>
            <a:ext cx="901440" cy="4446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35080" y="53402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35080" y="55688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35080" y="57974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5080" y="60260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149480" y="21398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149480" y="23684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149480" y="25970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49480" y="28256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149480" y="30542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49480" y="32828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9480" y="53402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149480" y="55688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49480" y="57974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49480" y="60260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49480" y="4883040"/>
            <a:ext cx="672840" cy="4446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835280" y="21398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835280" y="23684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835280" y="25970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35280" y="28256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835280" y="30542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835280" y="32828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835280" y="4883040"/>
            <a:ext cx="825480" cy="4446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835280" y="53402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835280" y="55688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835280" y="57974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835280" y="60260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5080" y="35114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149480" y="35114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35280" y="35114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16360" y="1835280"/>
            <a:ext cx="673200" cy="291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978280" y="21398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978280" y="23684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978280" y="25970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78280" y="28256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978280" y="30542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8280" y="32828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978280" y="4883040"/>
            <a:ext cx="825480" cy="444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978280" y="53402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978280" y="55688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978280" y="57974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978280" y="60260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978280" y="35114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16360" y="2139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816360" y="2368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16360" y="2597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16360" y="28256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16360" y="3054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16360" y="3282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16360" y="5340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16360" y="5568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16360" y="5797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16360" y="6026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16360" y="4883040"/>
            <a:ext cx="673200" cy="444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16360" y="3511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502160" y="2139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02160" y="2368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502160" y="2597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502160" y="28256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502160" y="3054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502160" y="3282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02160" y="5340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502160" y="5568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502160" y="5797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502160" y="6026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502160" y="4883040"/>
            <a:ext cx="673200" cy="444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02160" y="3511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35080" y="37400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35080" y="39686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35080" y="41972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35080" y="44258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149480" y="37400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9480" y="39686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149480" y="41972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9480" y="44258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835280" y="37400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835280" y="39686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835280" y="41972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35280" y="44258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35080" y="46544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149480" y="46544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35280" y="46544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8280" y="37400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78280" y="39686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978280" y="41972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78280" y="44258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78280" y="46544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16360" y="3740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16360" y="39686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16360" y="4197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16360" y="4425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16360" y="4654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02160" y="3740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02160" y="39686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02160" y="4197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02160" y="4425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02160" y="4654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87960" y="21398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187960" y="23684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187960" y="25970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187960" y="28256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187960" y="30542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187960" y="32828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187960" y="4883040"/>
            <a:ext cx="901800" cy="444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87960" y="53402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87960" y="55688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87960" y="57974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187960" y="60260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187960" y="35114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187960" y="37400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187960" y="39686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87960" y="41972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187960" y="44258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187960" y="46544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931160" y="1835280"/>
            <a:ext cx="901800" cy="291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245360" y="1835280"/>
            <a:ext cx="673200" cy="291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07280" y="1835280"/>
            <a:ext cx="825480" cy="291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407280" y="21398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407280" y="23684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07280" y="25970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407280" y="28256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407280" y="30542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407280" y="32828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07280" y="35114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245360" y="21398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245360" y="23684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245360" y="25970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45360" y="28256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245360" y="30542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245360" y="32828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245360" y="35114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407280" y="37400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245360" y="37400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931160" y="21398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931160" y="23684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931160" y="25970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931160" y="28256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931160" y="30542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931160" y="32828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931160" y="35114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931160" y="37400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83360" y="1479600"/>
            <a:ext cx="1482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591360" y="1479600"/>
            <a:ext cx="180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390000" y="1479600"/>
            <a:ext cx="2461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ted 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Replacement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faults require one frame emptied and a new page brought i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dified frames must be written to dis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modified frames are just overwritt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eavily used pages will probably have to be brought back i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abel each page with the number of instructions that will be executed before it’s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the page having the highest lab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ilar approach to “Shortest Job First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laced page not needed for the longest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way to know which page referenced nex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 a log of first “run” to optimize the seco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are to other replacement algorith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-Recently-Used (NRU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ag each page using two status bit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07040" indent="-168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 = the page was referenced or rea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07040" indent="-168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 = the page was modified or writte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lect from four categories: RM=00 to RM=1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random page from lowest non-empty cla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ume better to remove a modified page that has not been referenced than a clean page that is heavily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not used rec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 overhead (2 bit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ster to set status bits using hard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ock interrupts clear the R-b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-In First-Out (FIF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tain list of all pages 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ink according to when the page was brought i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ldest = Head of li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ewest = Tail of li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at the head of the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ume oldest page is least acces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old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 overhe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inked list operations, no search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ldest page may be small process everyone nee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Ch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bine FIFO with NRU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spect R-bit of the head of the li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at head of list if R-bit set to 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umes old and un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urn page to tail of list if R-bit set to 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umes old, but still 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oldest and not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s overhead to inspect bits and re-link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generates to pure FIFO if all pages have been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me as Second Ch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don’t use linked lis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y an array that uses a modulo inde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spect R-bit of the page being pointed to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being pointed to if R-bit set to 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umes old and un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o to next index if R-bit set to 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umes old, but still 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oldest and not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voids overhead of re-linking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 memory to hold “empty” clock pos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generates to pure FIFO if all pages have been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t Recently Used (LRU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umes pages that have just been used will be used again very so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thod 1: Counter Field in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increments on each instruc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stored to page just referenc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move page having oldest coun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thod 2: N by N Matri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or N pages, make an NxN matrix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n access to page 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et row K to ones, column K to zero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move page whose row value is lowe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st closely approximates Optimal Algorith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re memory, special hardware, and soft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noprogramming without Swapping or Pag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rogramming and Memory Us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eling Multiprogramm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alysis of System 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rogramming with Fixed Parti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sic Concep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ocation and Prot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Frequently Used (NFU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imulating LRU in Softwar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me as LRU counter method, but uses R-b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t each clock interrupt, scan all pages 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each page, add the R-bit to the count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counter in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with lowest counter valu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least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s fields to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 loop on each clock interrup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way to decr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remove useful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imulating LRU in Softwar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me as NFU, but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hift counter to righ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d R-Bit to lef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counter in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with lowest counter valu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least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tter approximation of LRU than NFU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me as NFU, b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creased overhead for shifting and adding to upper bi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’t identify reference order between clock ti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’t distinguish between 8 clock ticks and 1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Paging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elady’s Anomal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ck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Distance Str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edicting Page Fault Ra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ady’s Anoma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pending on page replacement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0" algn="ctr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more page frames you have,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0" algn="ctr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fewer page faults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 not necessarily tru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ck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bserv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ery process generates sequence of referen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reference corresponds to a virtual p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ild ordered list of page numb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ference String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un the list using “m”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-run the list using “m+1”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 pages in memory for the first run will be in memory for the second ru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ck algorithms do not suffer from Belady’s Anoma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stance St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zes stack algorithms by how far page frames have to move to the top of the stac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ances depend on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algorithm being execu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paging method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ability analysis will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ll you how efficient your algorithm will run on a particular mach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lp predict Page Fault ra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 for Pag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Working Set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cal versus Global Allocation Polic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Siz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struction Back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king Pages 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d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cking Sto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Daem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Fault Handl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rking Set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ypic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mand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s loaded “on demand”, not in advan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lity of Refer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s reference only a small fraction of the tota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s reference nearby pages rather than distant o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Working Se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t of pages that a process is currently u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f entirely in memory, no page faul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ading the working set before letting a process ru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 versus Global Allocation Poli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c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is isolated to a contiguou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allocated to a process stays const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orking set growth will cause “Thrashing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orking set shrinks result in wasted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lob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replacement could happen anywhere in the addres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ynamic Allocation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umber of frames allocated to process can grow or shrin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cation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qu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cate equal numbers of pages per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00 pages, 10 processes = 50 pages per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portion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cate pages according to process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00K process gets 30 times the pages of a 10K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require a minimum page se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Fault Frequ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 with high fault rate get more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o many processes force swapping with reallocation of the page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ne process in memory at a ti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st contain all procedures and I/O driv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ew process requires complete memory reloa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gram size is limited by amount of ma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ful on small, stand-alone worksta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t useful on large computers or where multiple users are involv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nal fragmentation costs np/2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 = number of pages in memor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 = page size in byt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mall P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 be allocated in pairs to mimic large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 large page tables - cost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 frequent disk accesses - costs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arge P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ad unused program segm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re page faul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3124080" y="4273560"/>
            <a:ext cx="2959200" cy="113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435480" y="1835280"/>
            <a:ext cx="2273040" cy="596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3962520" y="1943280"/>
                <a:ext cx="18968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11" name=""/>
          <p:cNvSpPr/>
          <p:nvPr/>
        </p:nvSpPr>
        <p:spPr>
          <a:xfrm>
            <a:off x="2451240" y="2546280"/>
            <a:ext cx="39243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optimum pag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average process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page table entry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=640 KB and e=32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3274920" y="4381560"/>
                <a:ext cx="32511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3" name=""/>
          <p:cNvSpPr/>
          <p:nvPr/>
        </p:nvSpPr>
        <p:spPr>
          <a:xfrm>
            <a:off x="541440" y="5594400"/>
            <a:ext cx="8275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machines running DOS programs should have a 4K to 8K pag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4K uses 12 bits while 8K uses 13 b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um Page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struction Backup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faults may occur in middle of an instr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utoincrement and autodecrement of program counters complicates restart choice for the O/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s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ave program counter before executing an instruction (PDP-11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ump state information onto the stack (68010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oll back the state of the machine (VAX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cking Pag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faults may cause overwrite of I/O buff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k I/O buffers in memory during page faul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dditional status bi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hared P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s commonly use the same program simultaneous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ing read-only pages save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 careful not to let the system remove shared pages if a single user logs o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special data structur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cking Sto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space reserved as a swap are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ace allocated in “chunks” according to process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itialization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ad entire process to swap area and page “in” as need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ad process to memory and page “out” as necessar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locate when swapping “out”, deallocate when swapping “in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ing Daem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ol of free pages is more efficient than swapp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wakened periodically to free up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icted pages are saved to disk if modifi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ves search time when a free frame is need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Fault Hand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rdware “Traps” to the kern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ve program count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ve state of current instr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embly code saves general regist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perating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termine which virtual page faul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69960" indent="-159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heck for valid address and protection acc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69960" indent="-159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quire a page frame or select a frame to repla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rieve the new virtual p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69960" indent="-159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ave old frame to disk if “dirty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69960" indent="-159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text Switch to another process during disk op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pdate page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ck up to the faulting instr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e to restar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embly code restores general regist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turn to norm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sic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dependent address spaces of different length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ow and shrink independ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two-part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gment address and Address within the segm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titutes a “logical” ent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dure, Array, Stack, Scalars, but not mix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kes compilation easi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arting address within segment is always the same: 0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ew versions don’t force readdressing other procedur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cilitates “shared” procedures such as libra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ids protection sche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s programmer-managed addres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054240" y="35877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073160" y="2057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682640" y="2673360"/>
            <a:ext cx="1206720" cy="273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682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4540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7589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0638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3684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733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054240" y="5416560"/>
            <a:ext cx="128268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054240" y="5111640"/>
            <a:ext cx="128268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54240" y="4502160"/>
            <a:ext cx="12826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054240" y="26733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13056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054240" y="457848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054240" y="3054240"/>
            <a:ext cx="128268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502160" y="35877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502160" y="5416560"/>
            <a:ext cx="128268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502160" y="5111640"/>
            <a:ext cx="128268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502160" y="4502160"/>
            <a:ext cx="12826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502160" y="26733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02160" y="457848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502160" y="3054240"/>
            <a:ext cx="128268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11440" y="205740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77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926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1972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65444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149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25764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40240" y="5746680"/>
            <a:ext cx="1411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054240" y="3740040"/>
            <a:ext cx="128268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02160" y="2749680"/>
            <a:ext cx="128268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02160" y="404496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54240" y="2749680"/>
            <a:ext cx="128268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950080" y="35877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950080" y="5416560"/>
            <a:ext cx="128268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950080" y="5111640"/>
            <a:ext cx="128268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950080" y="4502160"/>
            <a:ext cx="12826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950080" y="26733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950080" y="457848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950080" y="3359160"/>
            <a:ext cx="128268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950080" y="3054240"/>
            <a:ext cx="128268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950080" y="404496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822640" y="5823000"/>
            <a:ext cx="154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of Pure Seg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ation with Paging:  MUL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within each seg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Segments = 262,144 (218)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gment Size = 64K words of 36-bits eac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Size = 64 or 1024 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tup similar to two-level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gment table entries point to page tab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gment table entries also track segment siz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keeps uniform page sizes and avoids keeping all pages 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gmenting allows ease of programming, modularity, protection, and sha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ssociative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ation with Paging:  The Intel 38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within each seg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Segments = 16,384 (214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gment Size = 1 G words of 32-bits eac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Size = 4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tup similar to two-level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pports local and global addr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arge segment size allows “Mega”-programm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small associative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ckward compatibility complicates field u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82640" y="2368440"/>
            <a:ext cx="1206720" cy="25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2640" y="1530360"/>
            <a:ext cx="1206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2640" y="4883040"/>
            <a:ext cx="1206720" cy="825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6880" y="2368440"/>
            <a:ext cx="1206360" cy="25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6880" y="1530360"/>
            <a:ext cx="1206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883040"/>
            <a:ext cx="1206360" cy="825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6880" y="2597040"/>
            <a:ext cx="1206360" cy="22734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6880" y="18352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0760" y="2368440"/>
            <a:ext cx="1206360" cy="25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30760" y="1530360"/>
            <a:ext cx="1206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30760" y="4883040"/>
            <a:ext cx="1206360" cy="825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30760" y="2825640"/>
            <a:ext cx="1206360" cy="20448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0760" y="18352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54640" y="2368440"/>
            <a:ext cx="1206720" cy="25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54640" y="1530360"/>
            <a:ext cx="1206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54640" y="4883040"/>
            <a:ext cx="1206720" cy="825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54640" y="3816360"/>
            <a:ext cx="1206720" cy="10540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54640" y="18352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1080" y="617868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8640" y="61786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oa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0240" y="61786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emory Management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rganized by Address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noprogramming versus Multiprogramm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wapping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ve Processes from Memory to Disk &amp; Back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xed Partitions versus Variab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it Maps, Linked Lists, Buddy Syste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Virtual Memory (i.e. Paging)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llows process size to exceed physical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ges, Frames, Page Tables, Page Faults, Associative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age Replacement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ptimal, NRU, FIFO, 2nd Chance, Clock, LRU, NFU, Ag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odeling Paging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elady’s Anomaly, Stack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sign Issues for Paging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orking Set, Local/Global, Page Siz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egment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gramming &amp; Memory Us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asons for multiprogram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lit a large process into modu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 multiple users simultaneous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CPU time more effici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ctors to consid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st processes wait for I/O because it’s slow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mount of main memory is limited by co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mount of CPU time is fini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apping processes takes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 waiting includ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k access and load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Keyboard entry or mouse control signal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odem file transf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tc.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1:15:14Z</dcterms:created>
  <dc:creator>Dean Hipwell</dc:creator>
  <dc:description/>
  <dc:language>en-US</dc:language>
  <cp:lastModifiedBy>hipwelld</cp:lastModifiedBy>
  <cp:lastPrinted>1996-08-12T15:06:28Z</cp:lastPrinted>
  <dcterms:modified xsi:type="dcterms:W3CDTF">2001-01-15T19:03:14Z</dcterms:modified>
  <cp:revision>37</cp:revision>
  <dc:subject>CST400 - Operating System Theory &amp; Design</dc:subject>
  <dc:title>Chap 3 - Memory Management</dc:title>
</cp:coreProperties>
</file>