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264526D9-B4D7-4727-9391-8677C658D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c05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put &amp; Outp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7360" y="2139840"/>
            <a:ext cx="8140680" cy="1206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889680" y="4735440"/>
            <a:ext cx="1673280" cy="1338480"/>
            <a:chOff x="6889680" y="4735440"/>
            <a:chExt cx="1673280" cy="1338480"/>
          </a:xfrm>
        </p:grpSpPr>
        <p:sp>
          <p:nvSpPr>
            <p:cNvPr id="64" name=""/>
            <p:cNvSpPr/>
            <p:nvPr/>
          </p:nvSpPr>
          <p:spPr>
            <a:xfrm>
              <a:off x="7678800" y="4735440"/>
              <a:ext cx="264960" cy="26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78800" y="5808600"/>
              <a:ext cx="264960" cy="26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86760" y="5865840"/>
              <a:ext cx="15084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99440" y="5187960"/>
              <a:ext cx="15084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99440" y="5357880"/>
              <a:ext cx="26352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04160" y="5808600"/>
              <a:ext cx="264960" cy="26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946920" y="4792680"/>
              <a:ext cx="26352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72280" y="4735440"/>
              <a:ext cx="263520" cy="26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889680" y="4735440"/>
              <a:ext cx="1673280" cy="1281240"/>
              <a:chOff x="6889680" y="4735440"/>
              <a:chExt cx="1673280" cy="1281240"/>
            </a:xfrm>
          </p:grpSpPr>
          <p:sp>
            <p:nvSpPr>
              <p:cNvPr id="73" name=""/>
              <p:cNvSpPr/>
              <p:nvPr/>
            </p:nvSpPr>
            <p:spPr>
              <a:xfrm>
                <a:off x="8074080" y="5413320"/>
                <a:ext cx="488880" cy="490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7453440" y="4848120"/>
                <a:ext cx="974520" cy="943200"/>
                <a:chOff x="7453440" y="4848120"/>
                <a:chExt cx="974520" cy="9432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7453440" y="4848120"/>
                  <a:ext cx="941400" cy="9432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42200" y="5437080"/>
                  <a:ext cx="185760" cy="243000"/>
                </a:xfrm>
                <a:custGeom>
                  <a:avLst/>
                  <a:gdLst/>
                  <a:ahLst/>
                  <a:rect l="l" t="t" r="r" b="b"/>
                  <a:pathLst>
                    <a:path w="117" h="153">
                      <a:moveTo>
                        <a:pt x="17" y="152"/>
                      </a:moveTo>
                      <a:lnTo>
                        <a:pt x="116" y="19"/>
                      </a:lnTo>
                      <a:lnTo>
                        <a:pt x="66" y="0"/>
                      </a:lnTo>
                      <a:lnTo>
                        <a:pt x="0" y="139"/>
                      </a:lnTo>
                      <a:lnTo>
                        <a:pt x="17" y="15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7115040" y="4735440"/>
                <a:ext cx="941400" cy="943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89680" y="5187960"/>
                <a:ext cx="320760" cy="32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115040" y="4792680"/>
                <a:ext cx="208080" cy="208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15040" y="5413320"/>
                <a:ext cx="208080" cy="208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946920" y="4962600"/>
                <a:ext cx="320760" cy="32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791480" y="5526000"/>
                <a:ext cx="490680" cy="490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284960" y="5413320"/>
                <a:ext cx="488880" cy="490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510320" y="5526000"/>
                <a:ext cx="489240" cy="490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78800" y="4905360"/>
                <a:ext cx="490320" cy="490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31160" y="4861080"/>
                <a:ext cx="1244520" cy="1071360"/>
              </a:xfrm>
              <a:custGeom>
                <a:avLst/>
                <a:gdLst/>
                <a:ahLst/>
                <a:rect l="l" t="t" r="r" b="b"/>
                <a:pathLst>
                  <a:path w="784" h="675">
                    <a:moveTo>
                      <a:pt x="598" y="674"/>
                    </a:moveTo>
                    <a:lnTo>
                      <a:pt x="456" y="590"/>
                    </a:lnTo>
                    <a:lnTo>
                      <a:pt x="285" y="612"/>
                    </a:lnTo>
                    <a:lnTo>
                      <a:pt x="175" y="450"/>
                    </a:lnTo>
                    <a:lnTo>
                      <a:pt x="147" y="437"/>
                    </a:lnTo>
                    <a:lnTo>
                      <a:pt x="70" y="386"/>
                    </a:lnTo>
                    <a:lnTo>
                      <a:pt x="50" y="345"/>
                    </a:lnTo>
                    <a:lnTo>
                      <a:pt x="0" y="270"/>
                    </a:lnTo>
                    <a:lnTo>
                      <a:pt x="8" y="246"/>
                    </a:lnTo>
                    <a:lnTo>
                      <a:pt x="127" y="27"/>
                    </a:lnTo>
                    <a:lnTo>
                      <a:pt x="210" y="0"/>
                    </a:lnTo>
                    <a:lnTo>
                      <a:pt x="482" y="25"/>
                    </a:lnTo>
                    <a:lnTo>
                      <a:pt x="502" y="59"/>
                    </a:lnTo>
                    <a:lnTo>
                      <a:pt x="682" y="99"/>
                    </a:lnTo>
                    <a:lnTo>
                      <a:pt x="715" y="84"/>
                    </a:lnTo>
                    <a:lnTo>
                      <a:pt x="783" y="446"/>
                    </a:lnTo>
                    <a:lnTo>
                      <a:pt x="598" y="67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615960" y="3206880"/>
            <a:ext cx="7491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54040" y="3206880"/>
            <a:ext cx="97812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21080" y="3206880"/>
            <a:ext cx="1358640" cy="977760"/>
          </a:xfrm>
          <a:prstGeom prst="roundRect">
            <a:avLst>
              <a:gd name="adj" fmla="val 12495"/>
            </a:avLst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 Dr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8640" y="3206880"/>
            <a:ext cx="1359000" cy="977760"/>
          </a:xfrm>
          <a:prstGeom prst="roundRect">
            <a:avLst>
              <a:gd name="adj" fmla="val 12495"/>
            </a:avLst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6560" y="3206880"/>
            <a:ext cx="1359000" cy="977760"/>
          </a:xfrm>
          <a:prstGeom prst="roundRect">
            <a:avLst>
              <a:gd name="adj" fmla="val 12495"/>
            </a:avLst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64480" y="3206880"/>
            <a:ext cx="1358640" cy="977760"/>
          </a:xfrm>
          <a:prstGeom prst="roundRect">
            <a:avLst>
              <a:gd name="adj" fmla="val 12495"/>
            </a:avLst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09800" y="2819520"/>
            <a:ext cx="72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8386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28386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28386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28386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8386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43800" y="28386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11240" y="4502160"/>
            <a:ext cx="596880" cy="59688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44760" y="5111640"/>
            <a:ext cx="596880" cy="59688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1972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21080" y="480060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01960" y="4502160"/>
            <a:ext cx="596880" cy="59688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35480" y="5111640"/>
            <a:ext cx="596880" cy="59688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41972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1440" y="48006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6680" y="5340240"/>
            <a:ext cx="596880" cy="59688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126880" y="4807080"/>
            <a:ext cx="62244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92680" y="5797440"/>
            <a:ext cx="1130040" cy="596880"/>
          </a:xfrm>
          <a:prstGeom prst="cube">
            <a:avLst>
              <a:gd name="adj" fmla="val 24995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419724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4662360" y="3976920"/>
            <a:ext cx="5965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171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1714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56240" y="4427640"/>
            <a:ext cx="5965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781714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781714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807080" y="4730760"/>
            <a:ext cx="596880" cy="291960"/>
          </a:xfrm>
          <a:custGeom>
            <a:avLst/>
            <a:gdLst>
              <a:gd name="textAreaLeft" fmla="*/ 360 w 596880"/>
              <a:gd name="textAreaRight" fmla="*/ 597600 w 5968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21480" y="5187960"/>
            <a:ext cx="825480" cy="825480"/>
          </a:xfrm>
          <a:prstGeom prst="cube">
            <a:avLst>
              <a:gd name="adj" fmla="val 24995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419724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77600" y="5060880"/>
            <a:ext cx="1086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0760" y="2470320"/>
            <a:ext cx="153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9240" y="2165400"/>
            <a:ext cx="1780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816800" y="1339920"/>
            <a:ext cx="36792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07" y="0"/>
                </a:moveTo>
                <a:arcTo wR="10800" hR="10800" stAng="-5429635" swAng="5429635"/>
                <a:lnTo>
                  <a:pt x="10800" y="10800"/>
                </a:lnTo>
                <a:close/>
              </a:path>
              <a:path fill="none" w="21600" h="21600">
                <a:moveTo>
                  <a:pt x="10707" y="0"/>
                </a:moveTo>
                <a:arcTo wR="10800" hR="10800" stAng="-5429635" swAng="542963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5641920" y="1442880"/>
            <a:ext cx="38664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21280" y="1530360"/>
            <a:ext cx="1130040" cy="520560"/>
          </a:xfrm>
          <a:prstGeom prst="parallelogram">
            <a:avLst>
              <a:gd name="adj" fmla="val 5426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457360"/>
            <a:ext cx="0" cy="34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73760" y="1758960"/>
            <a:ext cx="120636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ical System Set-u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483240" y="1606680"/>
            <a:ext cx="5209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83240" y="1911240"/>
            <a:ext cx="5209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83240" y="2216160"/>
            <a:ext cx="5209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83240" y="2521080"/>
            <a:ext cx="5209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83240" y="2825640"/>
            <a:ext cx="5209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83240" y="3130560"/>
            <a:ext cx="5209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83240" y="3435480"/>
            <a:ext cx="5209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83240" y="3740040"/>
            <a:ext cx="5209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83240" y="4044960"/>
            <a:ext cx="5209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83240" y="4349880"/>
            <a:ext cx="5209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3240" y="4654440"/>
            <a:ext cx="5209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83240" y="4959360"/>
            <a:ext cx="5209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83240" y="5264280"/>
            <a:ext cx="5209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83240" y="5568840"/>
            <a:ext cx="5209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83240" y="5873760"/>
            <a:ext cx="5209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83240" y="6178680"/>
            <a:ext cx="5209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92480" y="1606680"/>
            <a:ext cx="2501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 Cl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92480" y="1911240"/>
            <a:ext cx="25016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92480" y="2216160"/>
            <a:ext cx="2501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8259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2480" y="2521080"/>
            <a:ext cx="2501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2:COM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92480" y="2825640"/>
            <a:ext cx="25016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1:CO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92480" y="3130560"/>
            <a:ext cx="2501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92480" y="3435480"/>
            <a:ext cx="2501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ppy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92480" y="3740040"/>
            <a:ext cx="25016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T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92480" y="4044960"/>
            <a:ext cx="2501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92480" y="4349880"/>
            <a:ext cx="2501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irected IRQ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92480" y="4654440"/>
            <a:ext cx="25016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erv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92480" y="4959360"/>
            <a:ext cx="2501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erv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92480" y="5264280"/>
            <a:ext cx="2501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erv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92480" y="5568840"/>
            <a:ext cx="25016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 Co-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92480" y="5873760"/>
            <a:ext cx="2501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92480" y="6178680"/>
            <a:ext cx="2501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erv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3040" y="1606680"/>
            <a:ext cx="15112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3040" y="1911240"/>
            <a:ext cx="151128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60-00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83040" y="2216160"/>
            <a:ext cx="15112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83040" y="2521080"/>
            <a:ext cx="15112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F8-02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3040" y="2825640"/>
            <a:ext cx="151128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3F8-03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83040" y="3130560"/>
            <a:ext cx="15112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83040" y="3435480"/>
            <a:ext cx="15112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3F0-03F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83040" y="3740040"/>
            <a:ext cx="151128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378-037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83040" y="4044960"/>
            <a:ext cx="15112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40-00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83040" y="4349880"/>
            <a:ext cx="15112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83040" y="4654440"/>
            <a:ext cx="151128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83040" y="4959360"/>
            <a:ext cx="15112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83040" y="5264280"/>
            <a:ext cx="15112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83040" y="5568840"/>
            <a:ext cx="151128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83040" y="5873760"/>
            <a:ext cx="15112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320-032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3040" y="6178680"/>
            <a:ext cx="15112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Mapped I/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 Memory Ac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164160" indent="-1641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ormal Proces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troller loads data from disk to buff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use interrup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/S loads buffer contents to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4160" indent="-1641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MA Proces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PU passes three thing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k address of the block to be retriev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emory address of where the block will go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umber of bytes to transf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troller reads entire block into buff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py first word into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crement DMA address, decrement byte cou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rrupt when byte count is zero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4160" indent="-1641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wo-Step buffering requires interleaving to improve performan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nciples of I/O 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oals of I/O Soft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terrupt Handl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vice Driv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vice-Independent Soft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ser-Space Soft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 of I/O 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vice Independen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un from Floppy or Hard Driv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niform Nam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dress all files and devices in the same wa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andle Errors Close to the Hard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wer level error correction is fast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ake Interrupt-Driven Devices Look Like Blocking Devi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andle Both Shared and Dedicated Devi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s of I/O 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ser-Space Soft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ibrary procedures that begin I/O pro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poolers and Daem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vice-Independent Soft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vides unique interface to CPU, RAM, &amp; O/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vides common interface for all driv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vice Driv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tain all “device-dependent” cod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ccept abstract requests from the O/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ecute specific commands to the dev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terrupt Handl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west-Level of softwa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trol what happens after an interrup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k 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orage capacity is lar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ice per bit is low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n-volati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k Hard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ylinders, Tracks, Secto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ek Time, Rotational Delay, Transfer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ftware Tri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Driver can “overlap” see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 Arm Scheduling Algo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rst-Come, First Serve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ays on one track until requested sector goes b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nnot reduce Seek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hortest Seek First (SSF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hifts arm to adjacent cylinders to pick up sectors opportunistical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duces total arm travel during multiple see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treme outer and inner tracks may get poor serv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Elevator Algorith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nce in motion, travel to the extreme trac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proves service to extreme trac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grades overall perform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 Arm Scheduling Algo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ngle Scan Direc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nce in motion, keep going in same dire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inor improvement on Elevator Algorith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ext Secto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ds sectors in same cylind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t different trac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o Seek time, only Rotational Dela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mechanism to check current sector numb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dundant Array of Inexpensive Disks (RAID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8 disks run in parall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2 deliver 1 bit each of a 32 bit wor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aining 6 bits are used for error corre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157320" indent="-1573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gramming Erro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ests for non-existent paramet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turn an error mes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ransient Checksum Erro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used by dust on the hea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peat the access reque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ermanent Checksum Erro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physically damag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bstitute a spare tra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ek Erro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rm sent to cylinder 6, but went to 7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Driver “Recalibrates” the arm tra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ntroller Erro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mands refus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et the controll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inciples of I/O Hard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inciples of I/O Soft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o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ermina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ck-at-a-Time Cac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d and store an entire track of data to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uld write to RA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uld have on-board controller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liminates delay for consecutive seeks to same tra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controller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handling softwa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y need to deconflict disk driver or even device-independent software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M Dis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 main memory to store blocks of inform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river requests are redirected to main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 Seek or Rotational Dela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rmally uses assembly language progra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main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ock Hard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mple Clock: 110V, 60Hz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rystal Clo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rystal Oscillator generates pulses at 5-100MHz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unter decrements at each puls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olding Register is used to load the count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nterrupts to load the counter are called “Clock Ticks”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ock Soft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intain “Time-of-Day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event Processes from running too lo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ccount for CPU u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andle warnings transmitted to user pro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vide Watchdog Tim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erform profiling, monitoring, and statistics gather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erminal Hard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eyboar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us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pla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ARTs (RS-232 cable interface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-Mapped Termina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nd one line of characters at a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80 characters by 24 lin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it Mapped Termina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ne bit/byte/word controls one pix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put Soft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utput Soft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inciples of I/O Hard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inciples of I/O Soft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o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ermina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nd P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s Pro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ment Resource: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s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ment Resource: Addr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s Fi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ment Resource: Nam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put/Output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s Devic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ment Resource: Communic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troduction to Process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n activity of some kin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gram, Input, Output, Stat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terprocess Communication (IPC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sy Wait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leep &amp; Wakeu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maphores, Counters, Monitors, Mess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assical IPC Probl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ace conditions are Ba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tual Exclusion prevents race condi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 Schedul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hare CPU time equitably, but according to prior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Memory Management 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rganized by Address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noprogramming versus Multiprogramming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wapping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ving Processes from Memory to Disk &amp; Back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ixed Partitions versus Variabl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it Maps, Linked Lists, Buddy Syste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Virtual Memory (i.e. Paging)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llows process size to exceed physical memory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ages, Frames, Page Tables, Page Faults, Associative Memory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age Replacement Algorith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ptimal, NRU, FIFO, 2nd Chance, Clock, LRU, NFU, Aging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Modeling Paging Algorith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elady’s Anomaly, Stack Algorithm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sign Issues for Paging Syste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Working Set, Local/Global, Page Siz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egmentation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157320" indent="-1573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Introduction 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iles, Directories, and Disk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Files 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ming, Structures, Types, Attributes, Operation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irectories 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ierarchical, Path Names, Operation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File System Implementation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ntiguous, Linked List, I-Nod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isk Space Managemen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684720" indent="-16344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Block Size, Free Blocks, Bad Blocks, Disk Quotas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nsistency Checking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684720" indent="-16344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Cache, Disk Control &amp; Format choices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ecurit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ata Loss, Intruders, Privacy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Viruses, Worms, Attack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otection Mechanis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omain Control Tabl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nciples of I/O Hard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/O Devi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vice Controll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rect Memory Acces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/O De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lock Devi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ores information in fixed-size bloc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dress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d &amp; Write blocks independent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Drives, Tape Driv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 Devi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livers or accepts a stream of charact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t address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d &amp; Write is contiguou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erminals, Printers, NIUs, Mice, Keyboards, etc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ther Devi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ocks, Memory Mapped Display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ice Controll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terface Componen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chanical: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ircuit board connects to the Bu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able connects to the devi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lectronic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ets voltage levels and signaling rat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tores firmware, register and DIP-switch valu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ftware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evice drivers communicate with the O/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w-Level drivers communicate with the devi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nterrupts signal the CPU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urpos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vert serial bit-stream into bytes or wor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rror Corre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2T21:51:46Z</dcterms:created>
  <dc:creator>Dean Hipwell</dc:creator>
  <dc:description/>
  <dc:language>en-US</dc:language>
  <cp:lastModifiedBy>hipwelld</cp:lastModifiedBy>
  <cp:lastPrinted>1996-08-14T05:34:18Z</cp:lastPrinted>
  <dcterms:modified xsi:type="dcterms:W3CDTF">2001-01-15T19:03:50Z</dcterms:modified>
  <cp:revision>19</cp:revision>
  <dc:subject>CST400 - Operating System Theory &amp; Design</dc:subject>
  <dc:title>Chap 5 - Input &amp; Output</dc:title>
</cp:coreProperties>
</file>