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1F6046E8-99A1-4178-9372-B801D06D5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2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2: Processes &amp; Processors in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a Threads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 User-Sp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s run on top of a run-tim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rnel thinks it’s running single-thread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read-switching is faster than trapping to the kerne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stomized scheduling algorith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caling is better since kernel space is fix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st implement traps as non-blocking procedur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clock interrupts to flush out blocked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 applications tend to block ofte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a Threads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 the Kern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run-tim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s managed in process management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ing uses system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ther than run-time procedur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 to Eith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brary procedures are not re-entr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gnals may be interpreted differ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LETE versus BACKSPA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SF’s Distributed Computing Environment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 Management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ill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ing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mplate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EX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dition Variable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Variable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92280" y="160668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63880" y="160668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w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198756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3880" y="198756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thread when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236844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236844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ent thread can wait for a child to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2280" y="274968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3880" y="274968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thread disowns a child so can exit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2280" y="358776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3880" y="358776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kill another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280" y="396864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3880" y="396864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/Disable ability for others to kill this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172080" y="2162520"/>
            <a:ext cx="128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-20160" y="3762720"/>
            <a:ext cx="92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1360" y="473076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8440" y="473076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chedu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" y="511164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8440" y="511164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schedu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1360" y="549288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8440" y="549288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360" y="587376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8440" y="587376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227880" y="52869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2280" y="1987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280" y="2368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280" y="2749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s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2280" y="3511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setstack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280" y="3892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getstack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2280" y="4273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mutexattr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2280" y="4654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mutexattr_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2280" y="5035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 mutexattr_setkind_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2280" y="5416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 mutexattr_getkind_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2280" y="5797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condattr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2280" y="6178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condattr_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8640" y="1987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parameter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8640" y="2368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parameter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8640" y="2749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efault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8640" y="3511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efault stack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2280" y="3130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g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8640" y="3130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efault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8640" y="3892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efault stack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8640" y="4273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MUTEX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8640" y="4654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MUTEX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8640" y="5035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efault MUTEX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8640" y="5416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efault MUTEX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8640" y="5797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condition variable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8640" y="6178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condition variable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7880" y="1403280"/>
            <a:ext cx="808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lates eliminate the need for specifying parameters with thread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92280" y="367020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2280" y="4051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dest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2280" y="443232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2280" y="5194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un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8640" y="367020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MUTEX semaph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8640" y="4051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a MUTEX semaph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8640" y="443232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 a MUTEX, fail if already 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8640" y="5194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 a MU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2280" y="481320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try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8640" y="481320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ock, return a 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EX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st MUTE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quiring same lock a second time will b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riendly MUTE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quiring same lock a second time will NOT b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sting is arbitrarily dee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2280" y="16826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280" y="20638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dest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280" y="24447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2280" y="32068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2840" y="168264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206388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a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82840" y="244476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 signal or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82840" y="320688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 up all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280" y="28256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2840" y="282564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 up only one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153360" y="239184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40449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2280" y="44258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2280" y="48070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2840" y="404496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2840" y="442584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pointer value to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2840" y="480708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pointer value from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-1440" y="444852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read is to Process as Process is to Machine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--Tanenbau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-Threading Model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patcher, Team, Pipeline, Cli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ign Issu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ermin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ynchroniz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ther typical problem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or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or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ingle CPU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cess, Memory, File, I/O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entralized, Networked, Distributed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O-OSI Model (Seven Layer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cols (Connection-Oriented, Connectionle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ient-Server Model (Microkerne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ocks, Mutual Exclusion, Election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ocesses in Distributed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read is to Process as Process is to Machine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--Tanenbau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thre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elongs to the same pro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s its own program coun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s its own sta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uns in quasi-parallel with other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threa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ve exactly the same virtual address spa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hare the same global variab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n wipe out other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wned by a single us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signed to cooperate rather than compete for resour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 Us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at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ads incoming reque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nds it to Worker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k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akes up and performs the handed tas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termines which threads to wake up and put to sleep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-threading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at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ipel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4456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56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6680" y="4730760"/>
            <a:ext cx="1587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36232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916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29528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1760" y="3276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87120" y="2396880"/>
            <a:ext cx="1663920" cy="3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45332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8960" y="412128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36952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7560" y="1828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4240" y="1835280"/>
            <a:ext cx="1396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7040" y="1835280"/>
            <a:ext cx="1396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9840" y="1835280"/>
            <a:ext cx="1396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3568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568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160" y="4730760"/>
            <a:ext cx="18162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164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5308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54918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0800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0346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0880" y="5823000"/>
            <a:ext cx="216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56040" y="5823000"/>
            <a:ext cx="159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59490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191232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ng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4456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56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6680" y="4730760"/>
            <a:ext cx="1587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36232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983880" y="48769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99072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6840" y="3276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22472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748520" y="2751480"/>
            <a:ext cx="167796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29320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9680" y="3276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6160" y="3276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2640" y="3276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68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568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21480" y="473076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1164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32448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4918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40800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45360" y="3740040"/>
            <a:ext cx="901800" cy="1663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346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7840" y="5823000"/>
            <a:ext cx="185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55320" y="5823000"/>
            <a:ext cx="159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6912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3960" y="5416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9490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ng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 for Thread Pack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s Pack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set of library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 Cre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t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threads &amp; stack size is fixed at compile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ple bu inflexi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ynam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 &amp; Destroy “on-the-fly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ires pointer, stack size, scheduling priority, etc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mplex but flexi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it Gracefu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 Killed from outsi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 for Thread Pack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ex semapho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ck, Unlock, Trylo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d for short-term lock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ociated with a mutex at the time of cre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d for long-term wait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Probl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 “Wait” and “Unlock” atomical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vari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fine thread-wide global variab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reates three levels of visible variabl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et user specify the algorithm to us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3:12:24Z</dcterms:created>
  <dc:creator>Dean Hipwell</dc:creator>
  <dc:description/>
  <dc:language>en-US</dc:language>
  <cp:lastModifiedBy>hipwelld</cp:lastModifiedBy>
  <dcterms:modified xsi:type="dcterms:W3CDTF">2001-01-15T19:03:27Z</dcterms:modified>
  <cp:revision>13</cp:revision>
  <dc:subject>CST400 - Operating System Theory &amp; Design</dc:subject>
  <dc:title>Chap 12 - Processes &amp; Processors in Distributed Systems</dc:title>
</cp:coreProperties>
</file>