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7CB32D00-D178-481C-8ADB-8519A483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6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very from Deadlo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em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op a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ember where job stopped and what is left to d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rt the new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pends of the type of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ll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es check-pointed period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oll” back process to before it started using a resour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utput since the checkpoint is lo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illing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lts a process and restarts the resource reque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es for killing must be carefully select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rinter vs Databas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 Traj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track of resource reques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fies “Safe” and “Unsafe” reg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fe:  Guarantees comple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nsafe: No guarante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lps decide whether to grant a resource requ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Banker’s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track of Process requir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ve Processes (Customer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vailable Resources (Money in the Bank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Assigned (Credit given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still needed (Credit request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avoided by limiting resources assigned to the available resour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1760" y="25970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01760" y="3130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6640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1760" y="41972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47307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7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7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7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7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1760" y="52642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7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1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1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1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8540000">
            <a:off x="1879560" y="1856520"/>
            <a:ext cx="127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540000">
            <a:off x="2563920" y="2085840"/>
            <a:ext cx="66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540000">
            <a:off x="135324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5120" y="5899320"/>
            <a:ext cx="205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25970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7080" y="31305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7080" y="36640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7080" y="41972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7080" y="47307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7080" y="52642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8540000">
            <a:off x="6558480" y="193248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540000">
            <a:off x="485856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9840" y="5899320"/>
            <a:ext cx="234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928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928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928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28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928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28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60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60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60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260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60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260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9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9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9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9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540000">
            <a:off x="537372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540000">
            <a:off x="59382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8540000">
            <a:off x="709812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62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62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62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62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62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62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540000">
            <a:off x="75384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07080" y="25970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7080" y="31305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7080" y="36640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7080" y="41972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47307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7080" y="52642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540000">
            <a:off x="6558480" y="193248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540000">
            <a:off x="485856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2000" y="589932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928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928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928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28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928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928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60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60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60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260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60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9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9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9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9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9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9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3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3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540000">
            <a:off x="537372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540000">
            <a:off x="59382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540000">
            <a:off x="709812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6840" y="25970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3130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36640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6840" y="41972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6840" y="47307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6840" y="52642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540000">
            <a:off x="2748240" y="193212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540000">
            <a:off x="104868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4120" y="589932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26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826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26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826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26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26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61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61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161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161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1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161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96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96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96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96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96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828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828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828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828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828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828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540000">
            <a:off x="156348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8540000">
            <a:off x="2127960" y="185688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8540000">
            <a:off x="328824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ultiple Resour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t no process exclude any oth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nters: Use spoolers and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s: Spooling space may run o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old and Wa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n’t keep “holding” processes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resource requests before exe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temporary relea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 Preemp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pends on the resource being pre-emp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ircular Wa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only one resource at a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resources globally and use in sequence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Phase Loc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ase 1: Lock all the records need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ase 2: Perform all tasks and unlock rec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ease all captured records if phase 1 fai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work on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Resource 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 set in the wrong order lead to dead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ember the “Dining Student’s Problem”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emptable and non-preemp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s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tual Exclusion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d and Wait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Preemption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ircular Wai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Handling Strateg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Detection and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of Management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ling Strateg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ion and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Management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/Output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eemptable 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 be taken from 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lemented through 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preemptable 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not be taken from 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.g. a printer in the middle of a print jo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 Usage Sequ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 the Resourc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the Resourc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ease the Resour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set of processes is deadlocked if each process in the set is waiting for an event that only another process in the set can cause.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ditions for Deadlo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ld and Wa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Preem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ircular Wa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Mode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ource 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/Waiting Arc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6102360" y="2813040"/>
            <a:ext cx="59688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124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77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5160" y="22924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9560" y="22924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0968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862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943600" y="28893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0" y="28893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124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77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5160" y="396864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396864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089760" y="2813040"/>
            <a:ext cx="62208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360" y="490860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73560" y="4756320"/>
            <a:ext cx="1274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0080" y="4756320"/>
            <a:ext cx="1274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231768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6480" y="3994200"/>
            <a:ext cx="140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303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8288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432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303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447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91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9160" y="22096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6840" y="2225160"/>
            <a:ext cx="2653560" cy="31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73" y="15801"/>
                </a:moveTo>
                <a:arcTo wR="10800" hR="10800" stAng="1654931" swAng="12240800"/>
                <a:lnTo>
                  <a:pt x="10800" y="10800"/>
                </a:lnTo>
                <a:close/>
              </a:path>
              <a:path fill="none" w="21600" h="21600">
                <a:moveTo>
                  <a:pt x="20373" y="15801"/>
                </a:moveTo>
                <a:arcTo wR="10800" hR="10800" stAng="1654931" swAng="122408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65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09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6294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65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09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453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5360" y="22096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2225160"/>
            <a:ext cx="2653560" cy="31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73" y="15801"/>
                </a:moveTo>
                <a:arcTo wR="10800" hR="10800" stAng="1654931" swAng="12240800"/>
                <a:lnTo>
                  <a:pt x="10800" y="10800"/>
                </a:lnTo>
                <a:close/>
              </a:path>
              <a:path fill="none" w="21600" h="21600">
                <a:moveTo>
                  <a:pt x="20373" y="15801"/>
                </a:moveTo>
                <a:arcTo wR="10800" hR="10800" stAng="1654931" swAng="122408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1160" y="2749680"/>
            <a:ext cx="62208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ing Dead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Handling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 strategies for deadlock hand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ion &amp;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 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otential Deadlock Are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tabl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number of running processes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 tabl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number of open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 Spac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an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 occurren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ver blocked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De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formal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rpose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tect a cycle in a directed grap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 Resource of each type: Linked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resources of each type: Arr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xisting Resources:  total number of resour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vailable Resources:  number of resources waiting to be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cation Matrix: number of resources a process ha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 Matrix:  number of resources a process wa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53:56Z</dcterms:created>
  <dc:creator>Dean Hipwell</dc:creator>
  <dc:description/>
  <dc:language>en-US</dc:language>
  <cp:lastModifiedBy>hipwelld</cp:lastModifiedBy>
  <cp:lastPrinted>1997-04-29T13:24:50Z</cp:lastPrinted>
  <dcterms:modified xsi:type="dcterms:W3CDTF">2001-01-15T19:03:47Z</dcterms:modified>
  <cp:revision>13</cp:revision>
  <dc:subject>CST400 - Operating System Theory &amp; Design</dc:subject>
  <dc:title>Chap 6 - Deadlocks</dc:title>
</cp:coreProperties>
</file>