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302760" y="434196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2760" y="434196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every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Dean Hipwell and welcome to CST400, Operating Systems Theory and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302760" y="434196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start with somebody and tell us about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302760" y="434196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228600"/>
                <a:tab algn="l" pos="1434960"/>
                <a:tab algn="l" pos="2971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you can see, I have only two goals for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228600"/>
                <a:tab algn="l" pos="1434960"/>
                <a:tab algn="l" pos="2971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ally, I want you to be able to talk to anyone about the UNIX and MS-DOS operating systems.  If you can understand the foundations of each of these systems, you’ll be well on the way to understanding many features of many operating system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228600"/>
                <a:tab algn="l" pos="1434960"/>
                <a:tab algn="l" pos="2971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, the second goal.  I want you to be able to speak competently on as many operating systems as possible.  UNIX, MS-DOS, Amoeba, and Mach are discussed in the textbook.  But I feel there are many other operating systems out there that you might be interested i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228600"/>
                <a:tab algn="l" pos="1434960"/>
                <a:tab algn="l" pos="2971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ASIC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dowing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istributed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a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228600"/>
                <a:tab algn="l" pos="1434960"/>
                <a:tab algn="l" pos="2971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eb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comp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228600"/>
                <a:tab algn="l" pos="1434960"/>
                <a:tab algn="l" pos="2971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D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-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228600"/>
                <a:tab algn="l" pos="1434960"/>
                <a:tab algn="l" pos="2971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System 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o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228600"/>
                <a:tab algn="l" pos="1434960"/>
                <a:tab algn="l" pos="2971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e 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/S-2 &amp; War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y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228600"/>
                <a:tab algn="l" pos="1434960"/>
                <a:tab algn="l" pos="2971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228600"/>
                <a:tab algn="l" pos="1434960"/>
                <a:tab algn="l" pos="2971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 wonder, how many Operating Systems you can nam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228600"/>
                <a:tab algn="l" pos="1434960"/>
                <a:tab algn="l" pos="2971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over as many of these as possible, I’m going to ask you to research one of these systems and tell us all abou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228600"/>
                <a:tab algn="l" pos="1434960"/>
                <a:tab algn="l" pos="2971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1440" y="36000"/>
            <a:ext cx="7687800" cy="425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76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76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76"/>
              </a:spcBef>
              <a:buClr>
                <a:srgbClr val="0066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25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T400 - Operating System Theory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35800" y="6629400"/>
            <a:ext cx="79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:  </a:t>
            </a:r>
            <a:fld id="{2EE34C7F-CB9B-46C9-B6CF-E6DEB2C35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61440" y="6629400"/>
            <a:ext cx="82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400in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1522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c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1447920"/>
            <a:ext cx="4419360" cy="6094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ST400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erating Systems Theory &amp;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5029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d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w S. Tanenbaum. “Modern Operating Systems”. Prentice-Hall. 199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repared by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ean Hipwell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Who are you?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Where are you from?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What are your interests?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What is your background in computers?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What do you know about Operating Systems?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What is your goal in this course?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What is your goal at Nat. U.?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rse 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ontrast the features of the UNIX and MS-DOS operating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cuss the features of several different existing operating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tenci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 of 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cuss the differences between single-processor and distributed operating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cuss the aspects of management performed by computer operating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call the issues and solutions involved in process, memory, file, and I/O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call the issues and solutions involved in concurrency and resource alloc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tinguish between mechanisms for interprocess communic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tenci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 of 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tinguish between mechanisms for process schedul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call the issues and solutions involved in security and protec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call the conditions for deadlock and methods of deadlock recove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tinguish between forms of distributed systems in terms of both hardware and soft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dentify the purpose of each layered communication protoco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erm Pape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ral Present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id-Term Exa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nal Exa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ttend class regularly, complete assignments before scheduled class times, participate in class discussions.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93520" y="1625760"/>
            <a:ext cx="3256920" cy="191844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8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EIGH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 Paper  (25%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al Presentation  (20%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-Term Exam  (20%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 Exam  (25%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Participation (1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08680" y="1604880"/>
            <a:ext cx="3368520" cy="40528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8640"/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RADE COR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50 - 1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00 - 94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70 - 8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40 - 86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0 - 83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70 - 7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40 - 76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00 - 73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70 - 6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0 - 66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0 - 63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0 - 5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5240" y="4826160"/>
            <a:ext cx="2910960" cy="39384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8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ximum of 1000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&amp; Gra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 Paper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4080" indent="-1540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/S of your choi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54080" indent="-1540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ont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07160" indent="-1497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rchitectur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07160" indent="-1497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Manag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07160" indent="-1497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mory Manag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07160" indent="-1497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Manag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07160" indent="-1497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/O Manag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07160" indent="-1497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07160" indent="-1497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ibliograph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4080" indent="-1540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S Word 6.0,  Five to Ten pages,  Max 1 inch margin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54080" indent="-1540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ngle Spaced Paragraphs,  10-12 Point TNR or Aria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54080" indent="-1540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raphics are good, Pictures are not good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54080" indent="-1540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Electronic submission is good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 Paper Gra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utlin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roduction (5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istory/Background (5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rchitecture (5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Management (10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mory Management (10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Management (10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/O Management (10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pecial Features (10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uture Prospects (5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ummary (5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ibliography (5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1143000"/>
            <a:ext cx="3581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71360" indent="-171360">
              <a:lnSpc>
                <a:spcPct val="90000"/>
              </a:lnSpc>
              <a:spcBef>
                <a:spcPts val="2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66680">
              <a:lnSpc>
                <a:spcPct val="90000"/>
              </a:lnSpc>
              <a:spcBef>
                <a:spcPts val="150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ormat 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66680">
              <a:lnSpc>
                <a:spcPct val="90000"/>
              </a:lnSpc>
              <a:spcBef>
                <a:spcPts val="150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rganization 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66680">
              <a:lnSpc>
                <a:spcPct val="90000"/>
              </a:lnSpc>
              <a:spcBef>
                <a:spcPts val="150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pelling 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66680">
              <a:lnSpc>
                <a:spcPct val="90000"/>
              </a:lnSpc>
              <a:spcBef>
                <a:spcPts val="150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rammar 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66680">
              <a:lnSpc>
                <a:spcPct val="90000"/>
              </a:lnSpc>
              <a:spcBef>
                <a:spcPts val="150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raphics 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66680">
              <a:lnSpc>
                <a:spcPct val="90000"/>
              </a:lnSpc>
              <a:spcBef>
                <a:spcPts val="150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adability 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66680">
              <a:lnSpc>
                <a:spcPct val="90000"/>
              </a:lnSpc>
              <a:spcBef>
                <a:spcPts val="150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alance 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1T07:56:58Z</dcterms:created>
  <dc:creator>Dean Hipwell</dc:creator>
  <dc:description/>
  <dc:language>en-US</dc:language>
  <cp:lastModifiedBy>hipwelld</cp:lastModifiedBy>
  <cp:lastPrinted>1996-08-05T15:26:12Z</cp:lastPrinted>
  <dcterms:modified xsi:type="dcterms:W3CDTF">2001-01-15T19:03:57Z</dcterms:modified>
  <cp:revision>24</cp:revision>
  <dc:subject>CST400 - Operating System Theory &amp; Design</dc:subject>
  <dc:title>Introduction</dc:title>
</cp:coreProperties>
</file>