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954D56CC-73B3-4C45-A866-9D6920E68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F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Ac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quenti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rt at the beginning and read to the e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skipping around, but rewinding ok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s: Magnetic tape stor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ando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 bytes in any order or by using key-look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s: Disk drive storage, databa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rting Posi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ecified by byte cou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ek operation looks for specific byte sequ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:  Extra items about each fi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me Attributes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WX for Owner, Group, Us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sswor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e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wn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lag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ad-Only, Hidden, System, Archive, ASCII/Binary, Random/Sequential, Temporary, Loc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ord Lengt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y Position and Lengt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ion, Last Access, Last Chang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urrent, Maximu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86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rea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le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p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s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a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ri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en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e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t Attribut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t Attribut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na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11430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py (See page 15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oc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m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com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ad/U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pped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aps a file into a virtual address spa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nal tables make the file a backing sto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automatically created using page faul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orks best with seg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Create, Open, Close, Read or Write comman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voids complex and cumbersome file routin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ize automatically set to equal frame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anges aren’t saved until a page is repla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may be larger than page, segment, or memory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erarchical Directory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th Nam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y Opera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273560" y="35114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11440" y="4121280"/>
            <a:ext cx="216000" cy="2156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35680" y="4121280"/>
            <a:ext cx="215640" cy="2156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9680" y="473076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11440" y="473076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73560" y="473076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35680" y="473076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7440" y="473076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756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844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9680" y="5340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056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1144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92680" y="5340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356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5444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35680" y="5340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656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744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8680" y="5340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404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57974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1616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04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57974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916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4004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21280" y="57974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0216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8304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64280" y="57974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4516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664080" y="3727440"/>
            <a:ext cx="6728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5840" y="3740040"/>
            <a:ext cx="6732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901960" y="4336920"/>
            <a:ext cx="67320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4080" y="4349880"/>
            <a:ext cx="6728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19440" y="434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7960" y="4349880"/>
            <a:ext cx="6732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43680" y="434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39840" y="4946400"/>
            <a:ext cx="67320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1960" y="4959360"/>
            <a:ext cx="6732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57680" y="4959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457360" y="4959360"/>
            <a:ext cx="3938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76400" y="495936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1560" y="4959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981240" y="4959360"/>
            <a:ext cx="3934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00640" y="495936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05440" y="4959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505480" y="4959360"/>
            <a:ext cx="3938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24520" y="495936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3680" y="4959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3036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124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92480" y="587376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7336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5424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35480" y="587376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636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724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8480" y="587376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936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024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21480" y="587376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6680" y="59500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756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844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9680" y="59500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3056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1144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92680" y="59500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7356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5444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35680" y="59500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656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744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8264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63880" y="60260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4476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2564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6880" y="60260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776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864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9880" y="60260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076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1164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92880" y="60260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7376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2604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7280" y="57974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816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0236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8324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64480" y="587376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8680" y="59500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956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044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5464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35880" y="60260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676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69040" y="348300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31880" y="409248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00480" y="4702320"/>
            <a:ext cx="17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direc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81720" y="5235480"/>
            <a:ext cx="17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direc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12240" y="576900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archical Directory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rganizes files for easy retriev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ypical attributes for each fi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N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Attribu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h Na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bsolu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/usr/ast/mailbo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S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:\ccmail\user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orking Direct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/usr/a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S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:\ccmai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lativ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lbo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S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urrent Directory:  “.”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rent Directory:    “..”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ory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akeDi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moveDi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ngeDi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na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in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lin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t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ubstitu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e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ltre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Xcop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910840" y="2901960"/>
            <a:ext cx="2977200" cy="1076760"/>
          </a:xfrm>
          <a:custGeom>
            <a:avLst/>
            <a:gdLst>
              <a:gd name="textAreaLeft" fmla="*/ 110160 w 2977200"/>
              <a:gd name="textAreaRight" fmla="*/ 2867040 w 2977200"/>
              <a:gd name="textAreaTop" fmla="*/ 39600 h 1076760"/>
              <a:gd name="textAreaBottom" fmla="*/ 860040 h 10767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3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What disk blo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go with what fi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052960" y="3807000"/>
          <a:ext cx="19144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2960" y="3807000"/>
                    <a:ext cx="19144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ing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ing Director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hared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 Space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 Reli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 Perform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tiguous Al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files in an unbroken sequence of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mple; Fa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x File size must be known at creation;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k fragmentation is heav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inked List Al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files in a linked list of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rst word points to next bloc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fragmentation;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rectory entries stay simp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andom access is very slow;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lock size is not power of 2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 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ur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Mechanis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inked List Allocation using an Inde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block pointers in a separat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e Allocation Table (FAT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covers lost overhead with simple linked lis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andom access is simplifi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ntire table must be maintained on dis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2 MB table for 500 MB disk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-Nod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milar to multi-level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block pointers point to tables of more poin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duces space requirements for table stor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duces table search tim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73560" y="586728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7560" y="5264280"/>
            <a:ext cx="120636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352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93360" y="5738760"/>
            <a:ext cx="624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6880" y="5264280"/>
            <a:ext cx="4442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51280" y="474804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x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640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72120" y="5738760"/>
            <a:ext cx="72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6360" y="5264280"/>
            <a:ext cx="291960" cy="44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212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18960" y="4748040"/>
            <a:ext cx="6933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735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2584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84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307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8304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356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79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4024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928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51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744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500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023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5464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72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95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03520" y="5738760"/>
            <a:ext cx="216252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Disk Block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520" y="535788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25440" y="5486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5797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5720" y="5797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quiremen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CII filename must map to disk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attributes must be easily retriev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ies in CP/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e and only one direct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block numbers stored with directory ent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entry points to up to 16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87560" y="4349880"/>
            <a:ext cx="120636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6880" y="4349880"/>
            <a:ext cx="4442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51280" y="383364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x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64080" y="43498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99400" y="4824360"/>
            <a:ext cx="1022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16360" y="4349880"/>
            <a:ext cx="1511280" cy="44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81320" y="4062240"/>
            <a:ext cx="98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40240" y="4349880"/>
            <a:ext cx="29232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45160" y="4349880"/>
            <a:ext cx="29196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50080" y="4349880"/>
            <a:ext cx="29196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54640" y="43498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6880" y="4900680"/>
            <a:ext cx="59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06200" y="4062240"/>
            <a:ext cx="56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68560" y="4824360"/>
            <a:ext cx="8535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2000" y="4062240"/>
            <a:ext cx="53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6480" y="444348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01760" y="45720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07280" y="5492880"/>
            <a:ext cx="143496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07600" y="5433840"/>
            <a:ext cx="10425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ies in MS-DO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rectory entries are 32 bytes lo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rst block number indexes into the F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bsequent blocks are recovered from the F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197240" y="3282840"/>
            <a:ext cx="212112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12960" y="3681360"/>
            <a:ext cx="85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-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92680" y="3282840"/>
            <a:ext cx="2919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33000" y="337644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8280" y="350532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73160" y="49593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8240" y="49593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3160" y="52642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8240" y="52642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73160" y="5568840"/>
            <a:ext cx="7491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8240" y="55688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73160" y="58737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8240" y="58737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73160" y="61786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8240" y="61786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5720" y="4519440"/>
            <a:ext cx="884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 D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21080" y="49593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21080" y="52642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21080" y="5568840"/>
            <a:ext cx="7491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21080" y="58737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21080" y="61786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55200" y="4519440"/>
            <a:ext cx="884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u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-Nod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835280" y="4793760"/>
            <a:ext cx="444240" cy="15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92480" y="48006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73560" y="49593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8640" y="49593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73560" y="52642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8640" y="52642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73560" y="5568840"/>
            <a:ext cx="7491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8640" y="55688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73560" y="58737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8640" y="58737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73560" y="61786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68640" y="61786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1680" y="4519440"/>
            <a:ext cx="1013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usr D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 1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82840" y="4794120"/>
            <a:ext cx="444600" cy="123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4004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21480" y="49593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21480" y="52642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21480" y="5568840"/>
            <a:ext cx="7491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21480" y="58737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21480" y="61786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06280" y="4519440"/>
            <a:ext cx="983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usr/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-Node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035680" y="4793760"/>
            <a:ext cx="444240" cy="15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92880" y="48006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73960" y="49593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9040" y="49593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73960" y="52642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9040" y="52642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73960" y="5568840"/>
            <a:ext cx="7491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9040" y="55688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73960" y="58737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9040" y="58737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73960" y="61786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9040" y="61786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40240" y="4519440"/>
            <a:ext cx="1115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usr/ast D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 4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483240" y="4794120"/>
            <a:ext cx="444600" cy="123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4044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9080" y="4191120"/>
            <a:ext cx="3502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ample: Look up “/usr/ast/mbo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70600" y="6032520"/>
            <a:ext cx="1575000" cy="58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ies in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rectory entries are 16 bytes lo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-Node number indexes to other I-N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-Nodes index to sub-directorie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273560" y="37400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11440" y="4349880"/>
            <a:ext cx="216000" cy="2156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3560" y="4349880"/>
            <a:ext cx="216000" cy="2156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35680" y="4349880"/>
            <a:ext cx="215640" cy="2156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9680" y="495936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11440" y="495936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80040" y="4965840"/>
            <a:ext cx="203040" cy="20304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60920" y="4965840"/>
            <a:ext cx="203040" cy="20304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6560" y="495936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21080" y="57214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8280" y="57214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8284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004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4496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70480" y="5727600"/>
            <a:ext cx="203040" cy="20340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8304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796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4516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664080" y="3956040"/>
            <a:ext cx="6728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25840" y="3968640"/>
            <a:ext cx="6732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81560" y="3968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901960" y="4565520"/>
            <a:ext cx="67320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64080" y="4578480"/>
            <a:ext cx="6728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9440" y="4578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743360" y="4578480"/>
            <a:ext cx="3938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62400" y="457848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660760" y="5187960"/>
            <a:ext cx="1648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422160" y="5187960"/>
            <a:ext cx="16524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184280" y="5187960"/>
            <a:ext cx="16524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327280" y="5187960"/>
            <a:ext cx="16524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59400" y="5194440"/>
            <a:ext cx="17784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01960" y="5187960"/>
            <a:ext cx="1396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64080" y="5187960"/>
            <a:ext cx="1396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32320" y="5194440"/>
            <a:ext cx="12708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7080" y="5187960"/>
            <a:ext cx="1396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8840" y="5187960"/>
            <a:ext cx="1396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6800" y="6051600"/>
            <a:ext cx="182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fil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r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s single file to appear in multiple directo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nections are called lin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ees become “Directed Acyclic Graphs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ppended blocks may only appear in the owner’s directory structu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 1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eate a small data structure associated with each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s block numbers in the structure, not the direct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y result in accesses to invalid I-n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 2: Symbolic Link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the same path and filename, but of file type “Link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n a non-owner accesses the filename, the O/S reads via the link to the original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overhead to store and follow path to original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Space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 Strateg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secutive By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Growth forces Mov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Growth does not force Mov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lock Siz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ing Track of Free B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 Quota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260028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to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a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ylind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Siz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051440" y="1917720"/>
            <a:ext cx="4165560" cy="4165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7240" y="2063880"/>
            <a:ext cx="3873600" cy="3873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9880" y="2216160"/>
            <a:ext cx="3568680" cy="356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02160" y="2368440"/>
            <a:ext cx="3263760" cy="326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54440" y="2521080"/>
            <a:ext cx="2959200" cy="2958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7080" y="2673360"/>
            <a:ext cx="2654280" cy="265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9360" y="2825640"/>
            <a:ext cx="2349360" cy="234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11640" y="2978280"/>
            <a:ext cx="2044800" cy="20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64280" y="3130560"/>
            <a:ext cx="1739880" cy="1739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16560" y="3282840"/>
            <a:ext cx="1434960" cy="1435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22640" y="3517920"/>
            <a:ext cx="1955520" cy="685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 rot="10800000">
            <a:off x="5879160" y="1916640"/>
            <a:ext cx="507960" cy="1498680"/>
          </a:xfrm>
          <a:custGeom>
            <a:avLst/>
            <a:gdLst>
              <a:gd name="textAreaLeft" fmla="*/ 111600 w 507960"/>
              <a:gd name="textAreaRight" fmla="*/ 396360 w 507960"/>
              <a:gd name="textAreaTop" fmla="*/ 329400 h 1498680"/>
              <a:gd name="textAreaBottom" fmla="*/ 116928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c0fef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 rot="9180000">
            <a:off x="5256720" y="2055600"/>
            <a:ext cx="507960" cy="1499400"/>
          </a:xfrm>
          <a:custGeom>
            <a:avLst/>
            <a:gdLst>
              <a:gd name="textAreaLeft" fmla="*/ 111600 w 507960"/>
              <a:gd name="textAreaRight" fmla="*/ 396360 w 507960"/>
              <a:gd name="textAreaTop" fmla="*/ 329760 h 1499400"/>
              <a:gd name="textAreaBottom" fmla="*/ 1169640 h 149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c0fef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 rot="7740000">
            <a:off x="4812120" y="2450520"/>
            <a:ext cx="508320" cy="1498680"/>
          </a:xfrm>
          <a:custGeom>
            <a:avLst/>
            <a:gdLst>
              <a:gd name="textAreaLeft" fmla="*/ 111600 w 508320"/>
              <a:gd name="textAreaRight" fmla="*/ 396720 w 508320"/>
              <a:gd name="textAreaTop" fmla="*/ 329400 h 1498680"/>
              <a:gd name="textAreaBottom" fmla="*/ 116928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c0fef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298600" y="2882880"/>
            <a:ext cx="2032200" cy="177840"/>
          </a:xfrm>
          <a:prstGeom prst="line">
            <a:avLst/>
          </a:prstGeom>
          <a:ln w="255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298600" y="2196720"/>
            <a:ext cx="2641680" cy="863640"/>
          </a:xfrm>
          <a:prstGeom prst="line">
            <a:avLst/>
          </a:prstGeom>
          <a:ln w="255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3429000"/>
            <a:ext cx="1143000" cy="114300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Para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36840" y="2743200"/>
            <a:ext cx="12672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36840" y="3505320"/>
            <a:ext cx="12672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36840" y="4267080"/>
            <a:ext cx="12672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36840" y="5029200"/>
            <a:ext cx="12672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80440" y="2743200"/>
            <a:ext cx="12672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80440" y="3505320"/>
            <a:ext cx="12672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80440" y="4267080"/>
            <a:ext cx="12672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80440" y="5029200"/>
            <a:ext cx="12672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2451240"/>
            <a:ext cx="0" cy="33271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36840" y="5791320"/>
            <a:ext cx="6070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0120" y="2527200"/>
            <a:ext cx="0" cy="325116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864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008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315200" y="571500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-4182120" y="-4254480"/>
            <a:ext cx="12021480" cy="988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38" y="15257"/>
                </a:moveTo>
                <a:arcTo wR="10800" hR="10800" stAng="1462353" swAng="3937647"/>
                <a:lnTo>
                  <a:pt x="10800" y="10800"/>
                </a:lnTo>
                <a:close/>
              </a:path>
              <a:path fill="none" w="21600" h="21600">
                <a:moveTo>
                  <a:pt x="20638" y="15257"/>
                </a:moveTo>
                <a:arcTo wR="10800" hR="10800" stAng="1462353" swAng="3937647"/>
              </a:path>
            </a:pathLst>
          </a:custGeom>
          <a:noFill/>
          <a:ln cap="rnd"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28480" y="-5626080"/>
            <a:ext cx="6375960" cy="1125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66499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664997"/>
              </a:path>
            </a:pathLst>
          </a:custGeom>
          <a:noFill/>
          <a:ln cap="rnd" w="25560">
            <a:solidFill>
              <a:srgbClr val="cc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41400" y="2743200"/>
            <a:ext cx="2641680" cy="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6920" y="254628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6920" y="330840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16920" y="407052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58400" y="483228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22280" y="254628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11480" y="330840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11480" y="407052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11480" y="483228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15240" y="582300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29640" y="582300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4040" y="582300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14960" y="582300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29360" y="582300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43760" y="582300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58160" y="582300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03240" y="6203880"/>
            <a:ext cx="222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Size (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-466200" y="3532320"/>
            <a:ext cx="237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ata Rate (KB/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6930360" y="3763800"/>
            <a:ext cx="29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isk Utilization (perc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6120" y="1555920"/>
            <a:ext cx="417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all files consist of 1K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eping Track of Free B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inked Lis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rt with a “Free”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entry points to a “free” block on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th a 16-bit list entry, a 1K block holds 512 ent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th 1024 blocks per MB, need 2 blocks per M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it Map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 n blocks, build a map containing n bi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bit is set when corresponding block is fre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uming 1K block size, need 1024 bits per M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ffere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ee” list shrinks as blocks are 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it maps don’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media: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media:  Addr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fi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media:  N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149480" y="3511440"/>
            <a:ext cx="196848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urier New"/>
              </a:rPr>
              <a:t>fi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urier New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urier New"/>
              </a:rPr>
              <a:t>disk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uid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Quota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9480" y="4730760"/>
            <a:ext cx="196848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k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id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ota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43000" y="282564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24080" y="282564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95840" y="3156120"/>
            <a:ext cx="2077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File”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6560" y="34354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oft Block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16560" y="36640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ard Block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6560" y="38926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urrent # of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6560" y="41212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lock Warnings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6560" y="43498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oft File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6560" y="45784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ard File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6560" y="48070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urrent # of Fi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6560" y="50356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ile Warnings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130560" y="3498480"/>
            <a:ext cx="227340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6560" y="52642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6560" y="54928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6560" y="57214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6560" y="59500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6560" y="29782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16560" y="32068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2755800"/>
            <a:ext cx="0" cy="386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77320" y="2603520"/>
            <a:ext cx="0" cy="393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23040" y="5257800"/>
            <a:ext cx="264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23040" y="3429000"/>
            <a:ext cx="264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71960" y="2622600"/>
            <a:ext cx="166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a”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Quo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stem Administrator assigns maximum space per us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perating System enforces the quota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Re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sing a file also losses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ystem helps protect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d Block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ckup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 Consistenc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 Block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manufacturers cannot guarantee 100% defect free on 100% of all dis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s become unreliable with u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rdware Solution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d” Block List maintained on each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ftware Solution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d” Block File created to isolate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bad blocks from “Free”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atch out during disk back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 Dump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Cop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kay for floppi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ape Back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low and include “Bad” block fi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able Hard Driv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yquest, Zip, Jazz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cremental Dump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ata Files On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ified Files On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ull Dumps periodical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rchive B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t when a file is modifi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et when a file is backed 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Consist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stem crashes in the middle of a write operation leave files in an unstable st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 Consistency Che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1: Block is allocated to Fi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2: Block is listed as “Free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Consistency Che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1: I-Node is pointed to by Directori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2: Link counts stored in the I-Nod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606680" y="236232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66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911240" y="2673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1616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210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25640" y="2673360"/>
            <a:ext cx="29232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3056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354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40040" y="2673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4496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9880" y="2673360"/>
            <a:ext cx="291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54440" y="2673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5936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42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68840" y="2673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73760" y="2673360"/>
            <a:ext cx="291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786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83240" y="2673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8816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930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397640" y="2673360"/>
            <a:ext cx="29232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066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11240" y="3816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1616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210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25640" y="3816360"/>
            <a:ext cx="29232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3056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354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40040" y="3816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4496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9880" y="3816360"/>
            <a:ext cx="291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654440" y="3816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936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642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68840" y="3816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73760" y="3816360"/>
            <a:ext cx="291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786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83240" y="3816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8816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930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97640" y="3816360"/>
            <a:ext cx="29232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360" y="2622600"/>
            <a:ext cx="91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89480" y="3765600"/>
            <a:ext cx="70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77200" y="2165400"/>
            <a:ext cx="93276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42920" y="4737240"/>
            <a:ext cx="808200" cy="424800"/>
          </a:xfrm>
          <a:prstGeom prst="roundRect">
            <a:avLst>
              <a:gd name="adj" fmla="val 12495"/>
            </a:avLst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k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752480" y="4107960"/>
            <a:ext cx="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1758960" y="4107960"/>
            <a:ext cx="29196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758960" y="4107960"/>
            <a:ext cx="52056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09640" y="4952880"/>
            <a:ext cx="1182600" cy="75348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i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296496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57120" y="4952880"/>
            <a:ext cx="1537560" cy="75348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upl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Free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448920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4160" y="4952880"/>
            <a:ext cx="1553040" cy="75348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upl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Data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601308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81200" y="4952880"/>
            <a:ext cx="1382040" cy="75348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upl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Li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753696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Consistency Che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606680" y="236232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066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112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161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210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256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305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354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400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9880" y="2673360"/>
            <a:ext cx="291960" cy="291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544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93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642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688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786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832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7881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930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97640" y="2673360"/>
            <a:ext cx="292320" cy="291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066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112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161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210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56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305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354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400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49880" y="3816360"/>
            <a:ext cx="291960" cy="291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544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93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642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688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86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832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881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930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97640" y="3816360"/>
            <a:ext cx="292320" cy="291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3200" y="2470320"/>
            <a:ext cx="1202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160" y="3765600"/>
            <a:ext cx="1527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ink 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07720" y="2165400"/>
            <a:ext cx="10746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-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42920" y="4737240"/>
            <a:ext cx="808200" cy="424800"/>
          </a:xfrm>
          <a:prstGeom prst="roundRect">
            <a:avLst>
              <a:gd name="adj" fmla="val 12495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k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752480" y="4107960"/>
            <a:ext cx="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758960" y="4107960"/>
            <a:ext cx="29196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8960" y="4107960"/>
            <a:ext cx="52056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13280" y="4952880"/>
            <a:ext cx="1423440" cy="753480"/>
          </a:xfrm>
          <a:prstGeom prst="roundRect">
            <a:avLst>
              <a:gd name="adj" fmla="val 12495"/>
            </a:avLst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oo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448920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39160" y="4952880"/>
            <a:ext cx="1267920" cy="753480"/>
          </a:xfrm>
          <a:prstGeom prst="roundRect">
            <a:avLst>
              <a:gd name="adj" fmla="val 12495"/>
            </a:avLst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oo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F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753696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449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449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8737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737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Consistency Che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M access takes ~100 nanose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access takes ~100 millise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rovement #1: Cach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M is used to buffer disk ac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ffers store blocks of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 replacement uses same algorithms as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che references less frequent than with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rawba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crashes impact more than one file or direct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me blocks are rarely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Replac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just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s the block likely to be needed again soon?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s the block essential for consistency?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needed blocks go to the head of the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ey are reused fir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s needed soon go to the tail of the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ey are reused la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s affecting consistency get written to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 blocks get written to disk periodical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NIX: “Sync” system call every 30 second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OS: Write modified blocks immediate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rite-Through Cache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rovement #2: Reduce Disk Arm Mo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rite sequential blocks to same cylind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t Map block management faster than Linked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 Linked Lists by allocating Clus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rovement #3: Rotational Position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leave sequential blocks depending on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k rotational period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6 msec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 request turnaround time: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4 msec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.g. Next block is one cylinder away, but a quarter the way aroun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rovement #4: I-Node Plac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rmal: I-Nodes at start of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tter: I-Nodes in the middle of the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: Reduces average seek time to next cylind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roduction to 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 activity of some ki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, Input, Output, St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process Communication (IPC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sy Wait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leep &amp; Wake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maphores, Counters, Monitors,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assical IPC Probl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ce conditions are B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tual Exclusion prevents race cond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Schedu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 CPU time equitably, but according to prior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Security Environ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amous Security Flaw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Internet Wor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ic Security Atta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on Approa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ru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Principles for Secur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er Authent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ssw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ysical Identif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untermeasur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ecurity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ur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vent modification by unauthorized Pers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vent modification by unauthorized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Mechanis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/S mechanisms to safeguard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ace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ata Lo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ts of Go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ystem Malfunctio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uman Erro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rud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ssiv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tive or Maliciou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vacy: protecting individual righ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mous Security Fla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pr -r printed a file, then removed 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ttack the password fi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verwrite the password file using a core dum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cept mkdir just before the chown comma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ypass security protoco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tch file into the victim direct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ify a tool -- Trojan Hor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security feedback to help identify password let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fere with password checking algorith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fter confirmation, but before retrieval, overwrite a verified filename with the victim’s filenam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ternet W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lf-Replicating Progra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ootstrap program:  “l1.c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orm prog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nd the bootstrap ahead and run 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ve the bootstrap go back and get the Wor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Worm would try to break user passw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p the Worm if one was already pres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fection Method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un a remote shel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ploit the finger daem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sendmail to pass the bootstrap routi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Security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mmon Approach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 core dum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llegal system calls or parame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rupt the login sequ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ify complex O/S structur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oof the user by using a phony login prog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ecute somebody else’s prototype cod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ild in a trapdo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ick the director’s secreta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ur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ood security practi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Security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Viru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 fragment attached to legitimate prog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gment runs first when legitimate program execu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nds uninfected program and attaches itself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mpto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rase, corrupt, or encrypt fi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l-up disk space or RA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hange the displa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event normal oper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ur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ean infected fi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format the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checksu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rite protect binary fi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inciples for Secu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ake the design available to the public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ault state should prevent ac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eck for current permiss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t simply once at the beginn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east privilege possib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mechanisms should be built-i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t add-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 it simple for legitimate us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ssword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sy to impl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sy to defe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Variations on Password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ndomly selected charac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lting the password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uter generated advice (e.g. “fotally”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ange frequ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e-Time passw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 generated test ques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allenge-Response algorith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hysical Identif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ngerprints, Finger Length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oicepri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gnature Analysi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inal Sca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untermeasur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trict the user to a terminal, time, or d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mediate call-b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ord all login attemp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ited Tra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nitor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equent disk sear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 profil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Domai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 set of (object, rights) pai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process runs in a protection domai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es can switch domai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not be in two domains at on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d peripherals can be written to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not rea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pplication: Multiple security leve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Government, Banking, Insuran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: 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e duplic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tection matrices are spars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chemes must also be implemented by tool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emory Management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rganized by Address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noprogramming versus Multiprogramm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wapping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ve Processes from e Memory to Disk &amp; Back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xed Partitions versus Variab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it Maps, Linked Lists, Buddy Syste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Virtual Memory (i.e. Paging)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llows process size to exceed physical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ges, Frames, Page Tables, Page Faults, Associative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age Replacement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ptimal, NRU, FIFO, 2nd Chance, Clock, LRU, NFU, Ag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odeling Paging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elady’s Anomaly, Stack Algorith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sign Issues for Paging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orking Set, Local/Global, Page Siz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egment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1378080" y="2438280"/>
            <a:ext cx="7607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5080" y="313056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5080" y="351144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5080" y="389268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5080" y="427356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ike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5080" y="465444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*,s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5080" y="503568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lle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808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139840" y="2749680"/>
            <a:ext cx="74952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0196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6408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25840" y="2749680"/>
            <a:ext cx="74952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8796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5008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11840" y="2749680"/>
            <a:ext cx="74952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23608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7396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37808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139840" y="3130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0196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6408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25840" y="3130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18796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5008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11840" y="3130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23608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7396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7808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39840" y="3511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0196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66408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25840" y="3511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8796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5008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3511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23608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7396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808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9840" y="3892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0196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6408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25840" y="3892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8796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5008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11840" y="3892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23608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7396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7808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9840" y="4273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0196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66408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25840" y="4273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8796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95008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11840" y="4273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23608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47396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37808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39840" y="4654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0196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6408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25840" y="4654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8796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5008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711840" y="4654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23608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47396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7808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39840" y="5035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0196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6408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25840" y="5035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8796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5008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11840" y="5035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23608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47396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2160" y="2774880"/>
            <a:ext cx="118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77880" y="2241720"/>
            <a:ext cx="10454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ion Dom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2520" indent="-166680">
              <a:lnSpc>
                <a:spcPct val="90000"/>
              </a:lnSpc>
              <a:spcBef>
                <a:spcPts val="3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lumn by Colum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90000"/>
              </a:lnSpc>
              <a:spcBef>
                <a:spcPts val="3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ows which domains have “access” to each objec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73160" y="25210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73160" y="290196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73160" y="328284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73160" y="36640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73160" y="404496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73160" y="442584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73160" y="48070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73160" y="518796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160" y="556884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35280" y="2521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*)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35280" y="290196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*)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835280" y="5568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*),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35280" y="3282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35280" y="3664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, 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35280" y="404496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35280" y="4425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35280" y="518796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,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9160" y="3282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359160" y="404496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, 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9160" y="4425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35280" y="4807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359160" y="2521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ike,*)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83040" y="3282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*,stu)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83040" y="2521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lle,*)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07280" y="3282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lle,*)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59160" y="4807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lle,*)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73160" y="59500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 Control Li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2520" indent="-166680">
              <a:lnSpc>
                <a:spcPct val="90000"/>
              </a:lnSpc>
              <a:spcBef>
                <a:spcPts val="3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ow by Row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90000"/>
              </a:lnSpc>
              <a:spcBef>
                <a:spcPts val="3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ows which objects can be “accessed” by a domai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301760" y="297828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01760" y="335916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01760" y="374004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301760" y="412128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ike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01760" y="450216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*,s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301760" y="488304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lle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44760" y="297828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0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587760" y="297828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1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30760" y="297828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2,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44760" y="3359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87760" y="3359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3, 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730760" y="3359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4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73760" y="3359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1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016760" y="3359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1,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44760" y="3740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87760" y="3740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4, 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0760" y="3740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1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73760" y="3740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2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44760" y="412128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0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44760" y="4502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444760" y="4883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0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87760" y="4883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30760" y="4883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2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bilities Control Li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Mode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mitives can be combined into comman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e or Delete a domain, an object, or a righ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ands must not allow an unauthorized st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fficult to Prov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vert Channe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covering information by indirect mea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nitoring CPU u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nitoring the page fault r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nitoring peripheral ac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s, Directories, and Dis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aming, Structures, Types, Attributes, Operatio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recto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ierarchical, Path Names, Operatio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 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iguous, Linked List, I-Nod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Space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lock Size, Free Blocks, Bad Blocks, Disk Quota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sistency Check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ache, Disk Control &amp; Format choi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ur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ata Loss, Intruders, Privacy, Viruses, Wor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Mechanis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main Control T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Nam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tructu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Typ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s Ac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Attribut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Opera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pped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Na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mposi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S: 8 digit name, 3 digit extens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: distinguishes between upper &amp; lower ca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C: “long” file n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xtensions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ypically mean special type of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ore to remind the user than the comput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ilers may require specific extens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 compiler convention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ilename.c” for input 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ilename.o” for output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7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structur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is simply a sequence of by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maximum flexi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is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tool complex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se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DOS and UNI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7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ord Seque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partitioned into fixed number of by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7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ad/Write on a single record rather than entire fi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is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Not suited for CRT termina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se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Early card readers and CP/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7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ord Tre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ords of different length have a key fiel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ords are sorted along the key fiel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Allows rapid search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is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Overhead of key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se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Mainframe commercial data proc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gular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ain User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CII Text: Can be displayed and printed as i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inary: An Executable or Archive fi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ain file system structure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 Special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el serial I/O devi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lock Special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el dis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1:41:18Z</dcterms:created>
  <dc:creator>Dean Hipwell</dc:creator>
  <dc:description/>
  <dc:language>en-US</dc:language>
  <cp:lastModifiedBy>hipwelld</cp:lastModifiedBy>
  <cp:lastPrinted>1996-08-14T05:33:32Z</cp:lastPrinted>
  <dcterms:modified xsi:type="dcterms:W3CDTF">2001-01-15T19:03:53Z</dcterms:modified>
  <cp:revision>35</cp:revision>
  <dc:subject>CST400 - Operating System Theory &amp; Design</dc:subject>
  <dc:title>Chap 4 - File Systems</dc:title>
</cp:coreProperties>
</file>