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1440" y="36000"/>
            <a:ext cx="7687800" cy="425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76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76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76"/>
              </a:spcBef>
              <a:buClr>
                <a:srgbClr val="006600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2503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T400 - Operating System Theory &amp;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35800" y="6629400"/>
            <a:ext cx="792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:  </a:t>
            </a:r>
            <a:fld id="{6D024A3F-722E-4F73-9BE7-C3ACCC2BF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61440" y="6629400"/>
            <a:ext cx="82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400c07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27560" y="2327400"/>
            <a:ext cx="7688880" cy="1059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Seve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522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onal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cr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1447920"/>
            <a:ext cx="4419360" cy="60948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ST400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perating Systems Theory &amp;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50292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ed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w S. Tanenbaum. “Modern Operating Systems”. Prentice-Hall. 199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prepared by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Dean Hipwell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view and Preview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Histor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General Oper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undamental Concept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ystem Call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mplement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and P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cess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emory Managemen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le System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nput &amp; Outpu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eadlock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UNIC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DP-11 UNIX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ortable UNIX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Berkeley UNIX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tandard UNIX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Open Software Found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l Ope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UNIX Goal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nterfac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Logging-I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 UNIX Shel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les and Directori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Utility Program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damental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cesses in UNIX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emory Mod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le System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nput &amp; Outpu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cess Managemen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emory Managemen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le and Directory Call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/O System Call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cess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emory Managemen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wapp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ag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he Page Replacement Algorith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le System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raditional UNIX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erkeley Fast File Syste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/O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view and Preview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Histor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General Oper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undamental Concept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ystem Call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mplement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22T23:06:10Z</dcterms:created>
  <dc:creator>Dean Hipwell</dc:creator>
  <dc:description/>
  <dc:language>en-US</dc:language>
  <cp:lastModifiedBy>hipwelld</cp:lastModifiedBy>
  <dcterms:modified xsi:type="dcterms:W3CDTF">2001-01-15T19:03:44Z</dcterms:modified>
  <cp:revision>4</cp:revision>
  <dc:subject>CST400 - Operating System Theory &amp; Design</dc:subject>
  <dc:title>Chap 7 - UNIX</dc:title>
</cp:coreProperties>
</file>