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21440" y="36000"/>
            <a:ext cx="7687800" cy="91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7666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21440" y="36000"/>
            <a:ext cx="7687800" cy="91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21440" y="36000"/>
            <a:ext cx="7687800" cy="91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2193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2193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7666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7666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7666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21440" y="36000"/>
            <a:ext cx="7687800" cy="91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21440" y="36000"/>
            <a:ext cx="7687800" cy="91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21440" y="36000"/>
            <a:ext cx="7687800" cy="91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21440" y="36000"/>
            <a:ext cx="7687800" cy="91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21440" y="36000"/>
            <a:ext cx="7687800" cy="425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21440" y="36000"/>
            <a:ext cx="7687800" cy="91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21440" y="36000"/>
            <a:ext cx="7687800" cy="91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21440" y="36000"/>
            <a:ext cx="7687800" cy="91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Click to edit the outline text format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76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Second Outline Level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76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Third Outline Level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3" marL="1025640" indent="-166680">
              <a:lnSpc>
                <a:spcPct val="85000"/>
              </a:lnSpc>
              <a:spcBef>
                <a:spcPts val="176"/>
              </a:spcBef>
              <a:buClr>
                <a:srgbClr val="006600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Fourth Outline Level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4" marL="1319040" indent="-179280">
              <a:lnSpc>
                <a:spcPct val="85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Fifth Outline Level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5" marL="1319040" indent="-179280">
              <a:lnSpc>
                <a:spcPct val="85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Sixth Outline Level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6" marL="1319040" indent="-179280">
              <a:lnSpc>
                <a:spcPct val="85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Seventh Outline Level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2503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ST400 - Operating System Theory &amp; Desig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35800" y="6629400"/>
            <a:ext cx="792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:  </a:t>
            </a:r>
            <a:fld id="{E1A67087-0859-4AE1-B833-3319014452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561440" y="6629400"/>
            <a:ext cx="820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400c09.p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727560" y="2327400"/>
            <a:ext cx="7688880" cy="10594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apter 9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troduction to Distributed System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371600" y="1522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tional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crame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362320" y="1447920"/>
            <a:ext cx="4419360" cy="609480"/>
          </a:xfrm>
          <a:prstGeom prst="roundRect">
            <a:avLst>
              <a:gd name="adj" fmla="val 12495"/>
            </a:avLst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CST400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Operating Systems Theory &amp;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71600" y="5029200"/>
            <a:ext cx="64008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85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apted fr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rew S. Tanenbaum. “Modern Operating Systems”. Prentice-Hall. 1992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algn="ctr">
              <a:lnSpc>
                <a:spcPct val="8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3300"/>
                </a:solidFill>
                <a:latin typeface="Arial"/>
              </a:rPr>
              <a:t>prepared by</a:t>
            </a:r>
            <a:endParaRPr b="1" i="1" lang="en-US" sz="2400" spc="-1" strike="noStrike">
              <a:solidFill>
                <a:srgbClr val="663300"/>
              </a:solidFill>
              <a:latin typeface="Arial"/>
            </a:endParaRPr>
          </a:p>
          <a:p>
            <a:pPr algn="ctr">
              <a:lnSpc>
                <a:spcPct val="8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3300"/>
                </a:solidFill>
                <a:latin typeface="Arial"/>
              </a:rPr>
              <a:t>Dean Hipwell</a:t>
            </a:r>
            <a:endParaRPr b="1" i="1" lang="en-US" sz="24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2521080" y="4121280"/>
            <a:ext cx="1054080" cy="825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92280" y="4121280"/>
            <a:ext cx="1054080" cy="825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90480" y="5313240"/>
            <a:ext cx="2886120" cy="454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s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1219320" y="3384720"/>
            <a:ext cx="0" cy="736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18120" y="1974960"/>
            <a:ext cx="1356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44560" y="4121280"/>
            <a:ext cx="749160" cy="368280"/>
          </a:xfrm>
          <a:prstGeom prst="rect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44560" y="2863800"/>
            <a:ext cx="749160" cy="52092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673360" y="2863800"/>
            <a:ext cx="749160" cy="52092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219320" y="2330280"/>
            <a:ext cx="0" cy="520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048120" y="2330280"/>
            <a:ext cx="0" cy="520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3048120" y="3384720"/>
            <a:ext cx="0" cy="736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673360" y="4121280"/>
            <a:ext cx="749160" cy="368280"/>
          </a:xfrm>
          <a:prstGeom prst="rect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370600" y="1974960"/>
            <a:ext cx="1356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25760" y="3124080"/>
            <a:ext cx="1015920" cy="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483240" y="4273560"/>
            <a:ext cx="1054080" cy="825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654440" y="4273560"/>
            <a:ext cx="1054080" cy="825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53000" y="5313240"/>
            <a:ext cx="3800520" cy="454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witch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537000"/>
            <a:ext cx="0" cy="736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580640" y="2127240"/>
            <a:ext cx="1356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807080" y="4273560"/>
            <a:ext cx="749160" cy="368280"/>
          </a:xfrm>
          <a:prstGeom prst="rect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807080" y="3016080"/>
            <a:ext cx="749160" cy="52092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635880" y="3016080"/>
            <a:ext cx="749160" cy="52092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181480" y="2482920"/>
            <a:ext cx="0" cy="520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010280" y="2482920"/>
            <a:ext cx="0" cy="520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010280" y="3537000"/>
            <a:ext cx="0" cy="736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635880" y="4273560"/>
            <a:ext cx="749160" cy="368280"/>
          </a:xfrm>
          <a:prstGeom prst="rect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333120" y="2127240"/>
            <a:ext cx="1356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587920" y="3276720"/>
            <a:ext cx="558720" cy="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6172200" y="1955520"/>
            <a:ext cx="0" cy="13460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8001000" y="1955520"/>
            <a:ext cx="0" cy="13460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416720" y="3276720"/>
            <a:ext cx="558720" cy="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654440" y="1606680"/>
            <a:ext cx="379728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lephone Net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04280" y="5921280"/>
            <a:ext cx="31471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ightly Coupled: High Spee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with Low Del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719600" y="5921280"/>
            <a:ext cx="320976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oosely Coupled: Low Spee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with High Del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terconnection Architectu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us-Based Multiprocessor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Characteristic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Multiple CPU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Common Bu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32 Address, 32 Data, 20-30 Control Lines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Shared Memory Module - Coherent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Issue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Bus overloads with 4-5 CPU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Cache solves overloading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but introduces incoherency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Write-Through Cache 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“</a:t>
            </a: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Writes” to the cache are also written to memory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Solves incoherency and reduces bus traffic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Snoopy” Cache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Monitors bus traffic and updates its own data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Possible for 32-64 CPUs on a single bus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witched Multiprocessor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167760" indent="-1677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Characteristic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43160" indent="-1630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Useful for 64+ CPU System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43160" indent="-1630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Switching Approache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729360" indent="-1742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Crossbar Switch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3" marL="1005120" indent="-163080">
              <a:lnSpc>
                <a:spcPct val="85000"/>
              </a:lnSpc>
              <a:spcBef>
                <a:spcPts val="113"/>
              </a:spcBef>
              <a:buClr>
                <a:srgbClr val="006600"/>
              </a:buClr>
              <a:buFont typeface="Arial"/>
              <a:buChar char="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momentarily connects CPU to memory</a:t>
            </a:r>
            <a:endParaRPr b="1" lang="en-US" sz="1800" spc="-1" strike="noStrike">
              <a:solidFill>
                <a:srgbClr val="006600"/>
              </a:solidFill>
              <a:latin typeface="Arial"/>
            </a:endParaRPr>
          </a:p>
          <a:p>
            <a:pPr lvl="2" marL="729360" indent="-1742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Omega Network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3" marL="1005120" indent="-163080">
              <a:lnSpc>
                <a:spcPct val="85000"/>
              </a:lnSpc>
              <a:spcBef>
                <a:spcPts val="113"/>
              </a:spcBef>
              <a:buClr>
                <a:srgbClr val="006600"/>
              </a:buClr>
              <a:buFont typeface="Arial"/>
              <a:buChar char="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network of 2x2 switches</a:t>
            </a:r>
            <a:endParaRPr b="1" lang="en-US" sz="1800" spc="-1" strike="noStrike">
              <a:solidFill>
                <a:srgbClr val="006600"/>
              </a:solidFill>
              <a:latin typeface="Arial"/>
            </a:endParaRPr>
          </a:p>
          <a:p>
            <a:pPr lvl="2" marL="729360" indent="-1742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Non-Uniform Memory Access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3" marL="1005120" indent="-163080">
              <a:lnSpc>
                <a:spcPct val="85000"/>
              </a:lnSpc>
              <a:spcBef>
                <a:spcPts val="113"/>
              </a:spcBef>
              <a:buClr>
                <a:srgbClr val="006600"/>
              </a:buClr>
              <a:buFont typeface="Arial"/>
              <a:buChar char="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some private, some shared</a:t>
            </a:r>
            <a:endParaRPr b="1" lang="en-US" sz="1800" spc="-1" strike="noStrike">
              <a:solidFill>
                <a:srgbClr val="006600"/>
              </a:solidFill>
              <a:latin typeface="Arial"/>
            </a:endParaRPr>
          </a:p>
          <a:p>
            <a:pPr lvl="1" marL="443160" indent="-1630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Multiple Memory Module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167760" indent="-1677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Issue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43160" indent="-1630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Crossbar Switch requires n</a:t>
            </a:r>
            <a:r>
              <a:rPr b="1" lang="en-US" sz="2400" spc="-1" strike="noStrike" baseline="30000">
                <a:solidFill>
                  <a:srgbClr val="0000cc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 crosspoint switche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43160" indent="-1630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Omega Network requires (n*log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n)/2 crosspoint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729360" indent="-1742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but  introduces latency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1" marL="443160" indent="-1630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NUMA reduces latency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729360" indent="-1742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but complicates programming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us-Based Multicomputer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Characteristic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Multiple CPU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Private Bu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Private Memory Module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Issue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CPU-to-CPU Communication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CPU-to-Memory Traffic = 300 Mbps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CPU-to-CPU Traffic = 10-100 Mbps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Local Area Network is considered a bu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Serial communication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Signaling protocols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witched Multicomputer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Characteristic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Useful for 64+ CPU System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Switching Approache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Grid:  Two-Dimensional Layout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Hypercube: N-Dimensional Layout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Private Memory Module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Issue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Complex wiring or large circuit board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High Cost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Hypercubes can use up to 16,384 CPU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ftware Concep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Loosely Coupled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Machines &amp; users to operate independently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Loosest coupling is “Sneaker” Net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Tightly Coupled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Each machine performs one part of same task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Tightest coupling is parallel processing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twork Operating Systems and NF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165960" indent="-1659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Loosely-coupled software on loosely-coupled hardware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38840" indent="-16164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User can use machine independently of other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38840" indent="-16164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Communication is low speed with high delay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165960" indent="-1659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Simple System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38840" indent="-16164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Remote logins,  Multiple remote login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38840" indent="-16164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Remote Copy Command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721800" indent="-1724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rcp machine1:file1 machine2:file2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marL="165960" indent="-1659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Shared Global File System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38840" indent="-16164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Client-Server Model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38840" indent="-16164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Local system augmented by network server file system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38840" indent="-16164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Network Operating Systems (NOS) 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721800" indent="-1724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simplify protocols 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2" marL="721800" indent="-1724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allow heterogeneous collections of clients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FS Architectu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Characteristic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Servers export directorie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Clients remotely mount exported directorie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Servers can also act as client machine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FS Protocol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169560" indent="-1695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Static Mounting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47840" indent="-1648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Client requests a path name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47840" indent="-1648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Server returns a file handle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47840" indent="-1648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Client maps the handle into the local system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47840" indent="-1648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Subsequent calls use the file handle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169560" indent="-1695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Automounting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47840" indent="-1648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Client tries to open a file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47840" indent="-1648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NOS signals all remote server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47840" indent="-1648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The first server to respond is mounted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47840" indent="-1648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Advantages: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736920" indent="-1760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If a mapped server is down, client cannot boot-up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2" marL="736920" indent="-1760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Accessing in parallel improves fault tolerance &amp; response time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1" marL="447840" indent="-1648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Disadvantages: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736920" indent="-1760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Directory structures must be identical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FS Protocol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Stateless File Acces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Opening files normally locks state information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Filename and location within the file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Reading a file does not lock state information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Filename, location within the file, bytes to return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Communicated by self-contained message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Advantages: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Client program doesn’t crash if server fails and recovers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Multiple users can access a single file simultaneously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Disadvantages: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Cannot lock a file to prevent others from accessing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Security must be implemented separately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Review and Preview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Goal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Hardware Concept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Software Concept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Design Issue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692280" y="1530360"/>
            <a:ext cx="3644640" cy="3797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807080" y="1530360"/>
            <a:ext cx="3644640" cy="3797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378080" y="1987560"/>
            <a:ext cx="2273040" cy="36828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stem Call Lay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996840" y="2978280"/>
            <a:ext cx="3035520" cy="36828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rtual File System Lay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996840" y="3892680"/>
            <a:ext cx="901800" cy="59688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/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30560" y="3892680"/>
            <a:ext cx="901800" cy="59688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169040" y="3892680"/>
            <a:ext cx="901800" cy="59688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/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187960" y="3892680"/>
            <a:ext cx="901800" cy="59688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111640" y="2978280"/>
            <a:ext cx="3035520" cy="36828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rtual File System Lay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1263600" y="4730760"/>
            <a:ext cx="368280" cy="520560"/>
            <a:chOff x="1263600" y="4730760"/>
            <a:chExt cx="368280" cy="520560"/>
          </a:xfrm>
        </p:grpSpPr>
        <p:sp>
          <p:nvSpPr>
            <p:cNvPr id="196" name=""/>
            <p:cNvSpPr/>
            <p:nvPr/>
          </p:nvSpPr>
          <p:spPr>
            <a:xfrm>
              <a:off x="1263600" y="5111640"/>
              <a:ext cx="368280" cy="139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263600" y="4807080"/>
              <a:ext cx="368280" cy="368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263600" y="4730760"/>
              <a:ext cx="368280" cy="139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266840" y="5119560"/>
              <a:ext cx="352440" cy="1144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0" name=""/>
          <p:cNvGrpSpPr/>
          <p:nvPr/>
        </p:nvGrpSpPr>
        <p:grpSpPr>
          <a:xfrm>
            <a:off x="7435800" y="4726080"/>
            <a:ext cx="368280" cy="520560"/>
            <a:chOff x="7435800" y="4726080"/>
            <a:chExt cx="368280" cy="520560"/>
          </a:xfrm>
        </p:grpSpPr>
        <p:sp>
          <p:nvSpPr>
            <p:cNvPr id="201" name=""/>
            <p:cNvSpPr/>
            <p:nvPr/>
          </p:nvSpPr>
          <p:spPr>
            <a:xfrm>
              <a:off x="7435800" y="5106960"/>
              <a:ext cx="368280" cy="139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435800" y="4802040"/>
              <a:ext cx="368280" cy="368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435800" y="4726080"/>
              <a:ext cx="368280" cy="139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439040" y="5114880"/>
              <a:ext cx="352440" cy="1144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5" name=""/>
          <p:cNvSpPr/>
          <p:nvPr/>
        </p:nvSpPr>
        <p:spPr>
          <a:xfrm>
            <a:off x="2514600" y="2368440"/>
            <a:ext cx="0" cy="596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25640" y="3359160"/>
            <a:ext cx="596880" cy="520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1517760" y="3359160"/>
            <a:ext cx="622080" cy="520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581280" y="4502160"/>
            <a:ext cx="0" cy="120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87760" y="5715000"/>
            <a:ext cx="444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187960" y="5715000"/>
            <a:ext cx="44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638680" y="4502160"/>
            <a:ext cx="0" cy="1206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940440" y="3359160"/>
            <a:ext cx="596880" cy="520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>
            <a:off x="5632560" y="3359160"/>
            <a:ext cx="622080" cy="520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447920" y="4502160"/>
            <a:ext cx="0" cy="291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620120" y="4502160"/>
            <a:ext cx="0" cy="291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892680" y="5568840"/>
            <a:ext cx="1434960" cy="368280"/>
          </a:xfrm>
          <a:prstGeom prst="parallelogram">
            <a:avLst>
              <a:gd name="adj" fmla="val 56804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athn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749680" y="3968640"/>
            <a:ext cx="444240" cy="444600"/>
          </a:xfrm>
          <a:prstGeom prst="diamond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835280" y="3968640"/>
            <a:ext cx="444240" cy="444600"/>
          </a:xfrm>
          <a:prstGeom prst="diamond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292480" y="3282840"/>
            <a:ext cx="444240" cy="444600"/>
          </a:xfrm>
          <a:prstGeom prst="diamond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187960" y="6172200"/>
            <a:ext cx="59688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791320" y="4502160"/>
            <a:ext cx="0" cy="1663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971800" y="4425840"/>
            <a:ext cx="0" cy="17398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978280" y="6172200"/>
            <a:ext cx="97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816360" y="6026040"/>
            <a:ext cx="1434960" cy="368280"/>
          </a:xfrm>
          <a:prstGeom prst="parallelogram">
            <a:avLst>
              <a:gd name="adj" fmla="val 56804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Hand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597040" y="3664080"/>
            <a:ext cx="292320" cy="3682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270120" y="5635800"/>
            <a:ext cx="2247120" cy="76428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te: Subsequent call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ass the handle rath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an the pathn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FS Implement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FS Performanc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Read-Ahead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Data is passed in 8KB “chunks”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The “next chunk” is automatically requested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Write-Back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Data in less than 8KB “chunks” is stored locally until 8KB is accumulated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Caching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Two caches:  I-nodes and file data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Reduces network traffic 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Improves client response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Introduces incoherency 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Another client reads old data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Watchdog timers force write-backs to the server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rue Distributed System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Tightly-coupled software on loosely-coupled hardware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User can NOT use machine independently of other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Communication is still low speed with high delay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Characteristic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Single, global IPC mechanism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Global protection scheme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Identical process management approache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Global file system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Identical kernels on each client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Local kernels decide WHAT to swap, not HOW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ultiprocessor Timesharing System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Tightly-coupled software on tightly-coupled hardware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User can NOT use machine independently of other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Communication is HIGH speed with LOW delay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Characteristic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Single “Ready” queue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Scheduler must be classed a critical region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Long processes spend equal time on each CPU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Initial execution is slow until cache is purged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Busy Waiting may be better than Sleep &amp; Wakeup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File system is same as single processor system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sign Issu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Transparency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Flexibility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Reliability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Performance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Scalability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ransparenc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164160" indent="-1641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Goal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34160" indent="-15984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Hide system operation from user display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34160" indent="-15984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Hide system architecture from programmer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164160" indent="-1641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Concept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34160" indent="-15984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Location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714600" indent="-1706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names must not reveal location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1" marL="434160" indent="-15984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Migration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714600" indent="-1706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resources can be moved without changing names or forcing others to change references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1" marL="434160" indent="-15984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Replication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714600" indent="-1706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users cannot tell how many copies exist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1" marL="434160" indent="-15984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Concurrency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714600" indent="-1706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users can share resources automatically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1" marL="434160" indent="-15984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Parallelism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714600" indent="-1706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Users don’t know if running on multiple processors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2" marL="714600" indent="-1706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programmers don’t need to code parallelism explicitly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lexibilit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Goal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Allow for growth or new technology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Approache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Monolithic Kernel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Centralized O/S augmented with networking facilities and remote services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Microkernel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Minimal Services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3" marL="1025640" indent="-166680">
              <a:lnSpc>
                <a:spcPct val="85000"/>
              </a:lnSpc>
              <a:spcBef>
                <a:spcPts val="113"/>
              </a:spcBef>
              <a:buClr>
                <a:srgbClr val="006600"/>
              </a:buClr>
              <a:buFont typeface="Arial"/>
              <a:buChar char="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IPC, memory management, low-level process management and scheduling, low-level I/O</a:t>
            </a:r>
            <a:endParaRPr b="1" lang="en-US" sz="1800" spc="-1" strike="noStrike">
              <a:solidFill>
                <a:srgbClr val="006600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No file management, directory system, or system calls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Provides common, uniform interface between machines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Allows adding, deleting, and modifying services without changing the kernel code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liabilit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Goal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Improve performance over single processor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Aspect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Reliability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the probability that a system will not fail when call upon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Availability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the fraction of time the system is usable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Consistency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copies must be made identical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Security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messages originators must be identifiable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Fault Tolerance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server glitches do not crash clients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155880" indent="-15588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Goal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11480" indent="-15156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Maintain speed compared to single processor 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155880" indent="-15588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Metric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11480" indent="-15156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Response Time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677160" indent="-1616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request to reply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1" marL="411480" indent="-15156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Throughput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677160" indent="-1616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jobs per hour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2" marL="677160" indent="-1616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messages per job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1" marL="411480" indent="-15156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System Utilization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677160" indent="-1616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time waiting for network service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1" marL="411480" indent="-15156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Network Capacity Consumed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677160" indent="-1616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bps per second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1" marL="411480" indent="-15156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Grain-size: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677160" indent="-1616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Fine: small computations, high interaction, lots of data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2" marL="677160" indent="-1616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Coarse: large computations, low interaction, little data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1" marL="411480" indent="-15156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Fault Tolerance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677160" indent="-1616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adds extra messages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Review and Preview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Goal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Hardware Concept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Software Concept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Design Issue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view and Preview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Management Concept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Processe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Memory Management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File System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Input &amp; Output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UNIX and MS-DO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The Advent of Distributed System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Powerful Microprocessor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High Speed Network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Radically different software requirement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3600" y="6296040"/>
            <a:ext cx="35953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Source: California Computer News advertis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169560" indent="-1695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Advantages of Distributed over Centralized Systems (i.e. Mainframes)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47840" indent="-1648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Better Price/Performance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736920" indent="-1760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Pentiums*:  75MHz =$120</a:t>
            </a: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150MHz=$450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2" marL="736920" indent="-1760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Four times the cost for only twice the performance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1" marL="447840" indent="-1648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Better Absolute Performance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736920" indent="-1760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1000 CPUs running @20 MIPS give 20,000 MIPS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2" marL="736920" indent="-1760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A single chip would have to run at 20 GHz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1" marL="447840" indent="-1648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Some processes inherently distributed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736920" indent="-1760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Factory automation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2" marL="736920" indent="-1760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Automatic Teller Machines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1" marL="447840" indent="-1648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Higher Reliability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736920" indent="-1760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Single chip failure does not halt the entire system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1" marL="447840" indent="-1648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Incremental Growth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736920" indent="-1760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Additional machines can be added to accommodate growth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Advantages of Distributed over Independent PC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Ability to Share Data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PCs use the “Sneaker” Net (Too slow)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Database size may be too big for individual machines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Ability to Share Peripheral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Printers, Plotters, Scanners, Modems, Tape Drives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but not Keyboards, Mice, Displays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Enhanced Communication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E-mail, “Chat” Lines, Video Teleconferencing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Shared Workload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Send the big tasks to the faster computers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Appropriatenes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Little computers for the simpler tasks (Database User)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Big computers for the complex tasks (Database Builder)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Disadvantages of Distributed System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Software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State-of-the-Art is immature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Unreliable Network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Lose messages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Networks run slower than CPUs and can become saturated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Wiring and Cabling expenses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Security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Sharing capability also invites unwanted guests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ardware Concep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Definition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Flynn’s Taxonomy (Instruction &amp; Data Streams)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SISD:  Uniprocessor Computers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SIMD:  Array Processors (i.e. supercomputers)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MISD:  No known model (distributed simulation??)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MIMD:  Independent Computers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Tanenbaum’s Extension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MIMD with shared memory: multiprocessors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MIMD with common memory: multicomputers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Architecture Interconnection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Bussed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Switched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Tightly Coupled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Loosely Coupled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"/>
          <p:cNvGrpSpPr/>
          <p:nvPr/>
        </p:nvGrpSpPr>
        <p:grpSpPr>
          <a:xfrm>
            <a:off x="313200" y="2355840"/>
            <a:ext cx="1356480" cy="2527560"/>
            <a:chOff x="313200" y="2355840"/>
            <a:chExt cx="1356480" cy="2527560"/>
          </a:xfrm>
        </p:grpSpPr>
        <p:sp>
          <p:nvSpPr>
            <p:cNvPr id="60" name=""/>
            <p:cNvSpPr/>
            <p:nvPr/>
          </p:nvSpPr>
          <p:spPr>
            <a:xfrm>
              <a:off x="615960" y="3244680"/>
              <a:ext cx="749160" cy="520920"/>
            </a:xfrm>
            <a:prstGeom prst="rect">
              <a:avLst/>
            </a:prstGeom>
            <a:solidFill>
              <a:srgbClr val="c0fef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PU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990720" y="2711520"/>
              <a:ext cx="0" cy="52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>
              <a:off x="990720" y="3765600"/>
              <a:ext cx="0" cy="774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13200" y="2355840"/>
              <a:ext cx="1356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31080" y="4489560"/>
              <a:ext cx="7192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" name=""/>
          <p:cNvSpPr/>
          <p:nvPr/>
        </p:nvSpPr>
        <p:spPr>
          <a:xfrm>
            <a:off x="2216160" y="2444760"/>
            <a:ext cx="749160" cy="52056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90920" y="1911240"/>
            <a:ext cx="0" cy="520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2133720" y="4565520"/>
            <a:ext cx="0" cy="7747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913400" y="1555920"/>
            <a:ext cx="1356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774080" y="5289480"/>
            <a:ext cx="719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758960" y="4044960"/>
            <a:ext cx="749160" cy="52056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673360" y="4044960"/>
            <a:ext cx="749160" cy="52056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133720" y="3511440"/>
            <a:ext cx="0" cy="520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048120" y="3511440"/>
            <a:ext cx="0" cy="520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590920" y="2978280"/>
            <a:ext cx="0" cy="520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835280" y="3505320"/>
            <a:ext cx="1511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3048120" y="4565520"/>
            <a:ext cx="0" cy="7747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688480" y="5289480"/>
            <a:ext cx="719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85920" y="5846760"/>
            <a:ext cx="1133280" cy="454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S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757520" y="5846760"/>
            <a:ext cx="1666800" cy="454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M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481800" y="5846760"/>
            <a:ext cx="2504880" cy="454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M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7010280" y="3765600"/>
            <a:ext cx="0" cy="7747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409440" y="2355840"/>
            <a:ext cx="1356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651000" y="4489560"/>
            <a:ext cx="719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635880" y="3244680"/>
            <a:ext cx="749160" cy="52092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8007480" y="3244680"/>
            <a:ext cx="749160" cy="52092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010280" y="2711520"/>
            <a:ext cx="0" cy="520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381880" y="2711520"/>
            <a:ext cx="0" cy="520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8381880" y="3765600"/>
            <a:ext cx="0" cy="7747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8022600" y="4489560"/>
            <a:ext cx="719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704720" y="2355840"/>
            <a:ext cx="1356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92680" y="2444760"/>
            <a:ext cx="749160" cy="52056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267080" y="1911240"/>
            <a:ext cx="0" cy="520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4952880" y="4565520"/>
            <a:ext cx="0" cy="7747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589920" y="1555920"/>
            <a:ext cx="1356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593600" y="5289480"/>
            <a:ext cx="719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578480" y="4044960"/>
            <a:ext cx="749160" cy="52056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952880" y="3511440"/>
            <a:ext cx="0" cy="520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267080" y="2978280"/>
            <a:ext cx="0" cy="520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197240" y="3505320"/>
            <a:ext cx="1511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264280" y="2444760"/>
            <a:ext cx="749160" cy="52056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638680" y="1911240"/>
            <a:ext cx="0" cy="520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961520" y="1555920"/>
            <a:ext cx="1356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638680" y="2978280"/>
            <a:ext cx="0" cy="520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662280" y="5846760"/>
            <a:ext cx="2581200" cy="454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S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lynn’s Taxonom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2673360" y="3968640"/>
            <a:ext cx="1054080" cy="825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301760" y="3968640"/>
            <a:ext cx="1054080" cy="825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187960" y="4349880"/>
            <a:ext cx="2349360" cy="825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ared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300320" y="5313240"/>
            <a:ext cx="2504880" cy="454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ulticompu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1828800" y="3232080"/>
            <a:ext cx="0" cy="736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27600" y="1822320"/>
            <a:ext cx="1356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454040" y="3968640"/>
            <a:ext cx="749520" cy="368280"/>
          </a:xfrm>
          <a:prstGeom prst="rect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54040" y="2711520"/>
            <a:ext cx="749520" cy="52056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825640" y="2711520"/>
            <a:ext cx="749520" cy="52056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828800" y="2178000"/>
            <a:ext cx="0" cy="520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200400" y="2178000"/>
            <a:ext cx="0" cy="520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3200400" y="3232080"/>
            <a:ext cx="0" cy="736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825640" y="3968640"/>
            <a:ext cx="749520" cy="368280"/>
          </a:xfrm>
          <a:prstGeom prst="rect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523240" y="1822320"/>
            <a:ext cx="1356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033880" y="5313240"/>
            <a:ext cx="2657520" cy="454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ultiprocess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5638680" y="3232080"/>
            <a:ext cx="0" cy="736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037840" y="1822320"/>
            <a:ext cx="1356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187960" y="3968640"/>
            <a:ext cx="234936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rtual Addr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264280" y="2711520"/>
            <a:ext cx="749160" cy="52056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635880" y="2711520"/>
            <a:ext cx="749160" cy="52056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638680" y="2178000"/>
            <a:ext cx="0" cy="520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010280" y="2178000"/>
            <a:ext cx="0" cy="520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7010280" y="3232080"/>
            <a:ext cx="0" cy="736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333120" y="1822320"/>
            <a:ext cx="1356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264280" y="4349880"/>
            <a:ext cx="825480" cy="368280"/>
          </a:xfrm>
          <a:prstGeom prst="rect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559560" y="4349880"/>
            <a:ext cx="901800" cy="368280"/>
          </a:xfrm>
          <a:prstGeom prst="rect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anenbaum’s Extensi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7-23T22:27:44Z</dcterms:created>
  <dc:creator>Dean Hipwell</dc:creator>
  <dc:description/>
  <dc:language>en-US</dc:language>
  <cp:lastModifiedBy>hipwelld</cp:lastModifiedBy>
  <cp:lastPrinted>1996-08-19T00:45:24Z</cp:lastPrinted>
  <dcterms:modified xsi:type="dcterms:W3CDTF">2001-01-15T19:03:41Z</dcterms:modified>
  <cp:revision>23</cp:revision>
  <dc:subject>CST400 - Operating System Theory &amp; Design</dc:subject>
  <dc:title>Chap 8 - Intro to Distributed Systems</dc:title>
</cp:coreProperties>
</file>